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C86-3C60-4D81-8847-B03C9D5E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FCC-298C-40B8-8CA0-54E2F282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7D64-8A00-431C-82F8-9EB85230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177-4705-4B71-9E3B-781C305D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7DA9-1640-400C-8979-896F24A5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14A7-7221-41A5-A43B-147CEE46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CFE0-1393-462D-8DD7-F37F5B06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4EE6-ED2E-42BD-A685-9ED01169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F71C-FB22-418C-B63B-FE8F7A2A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40BF-38EE-450F-B356-38DBF9F8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2452-620A-4622-987B-0D4F9D84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F81-6CC0-4D75-8333-71C9A981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25FA-971B-4D0A-AB0D-4E95A93E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D85B-F33A-40E9-9613-5931DA70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8AE5-D709-43D5-BE70-014238A4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A23E-55C0-430D-9816-7C6E357A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4982-453D-4A54-8388-B87FD1E4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AF4-0874-420B-B8DD-BC99CB52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810-2211-467D-87FD-4C21BF25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B8E-44EA-432F-AF46-E6C5FFD7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B07-3F6F-4171-B70E-CEA06BC5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BF8-EF40-4301-860F-57255CB8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83B-E2A2-4E0D-8EE4-B3FB9FB4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B17-7845-4C03-9371-14F87972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BB4D-1799-483C-BA9B-C8D6701894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50EC-3769-486A-A163-0C859C856F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igitalt lärand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åndagen den 15/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gens lek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Mål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Att starta upp arbetet med digitalt lärand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Metod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Genomgång och diskussion i grupp. Skriva i wikin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Tid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700" spc="-1" strike="noStrike">
                <a:solidFill>
                  <a:srgbClr val="ffffff"/>
                </a:solidFill>
                <a:latin typeface="Arial"/>
              </a:rPr>
              <a:t>14.00-15.00 </a:t>
            </a:r>
            <a:r>
              <a:rPr b="0" i="1" lang="sv-SE" sz="2700" spc="-1" strike="noStrike">
                <a:solidFill>
                  <a:srgbClr val="ffffff"/>
                </a:solidFill>
                <a:latin typeface="Arial"/>
              </a:rPr>
              <a:t>Återsamling 14.55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pdrag i dag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Låt en i gruppen logga in på Fronter och hämta sina inloggningsuppgifter till wikin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Digitalt lärande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2. Gå in på wikin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Digitalt lärande. 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älj </a:t>
            </a:r>
            <a:r>
              <a:rPr b="0" i="1" lang="sv-SE" sz="2200" spc="-1" strike="noStrike">
                <a:solidFill>
                  <a:srgbClr val="ffffff"/>
                </a:solidFill>
                <a:latin typeface="Arial"/>
              </a:rPr>
              <a:t>Elevernas tankar . </a:t>
            </a: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Hitta ert gruppnummer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3. Diskutera frågorna tillsammans i gruppen. Skriv in  era svar i wikin. Tryck på Edit-knappen , så kommer verktygsfältet fra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Frågor som ska diskutera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När och hur använder ni er av datorer i skolan i da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Hur skulle ni vilja att man använder sig av datorer i skola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ilka webbapplikationer (sajter) använder ni er av när ni jobbar med skolarbete hemma? Vad lär ni er då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ad gör ni på datorn när ni är lediga från skola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Vad tror ni att det finns för nackdelar med datorer och Interne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Arial"/>
              </a:rPr>
              <a:t>Annat som ni diskuterad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äxa till freda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äs sexornas tipslista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Bli Internetsmar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affa inloggningsuppgifter till vår wiki Digitalt lärande.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Invite finns i Frontermail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ogga in på Wikin. Längst uppe i hörnet finns det en knapp som heter </a:t>
            </a:r>
            <a:r>
              <a:rPr b="0" i="1" lang="sv-SE" sz="2400" spc="-1" strike="noStrike">
                <a:solidFill>
                  <a:srgbClr val="ffffff"/>
                </a:solidFill>
                <a:latin typeface="Arial"/>
              </a:rPr>
              <a:t>Discussion.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Tryck på d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vara på diskussionsfråga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dress till wikin:</a:t>
            </a:r>
            <a:r>
              <a:rPr b="0" lang="sv-SE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</a:rPr>
              <a:t>http://digitaltlarande.wikispaces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9:53:22Z</dcterms:created>
  <dc:creator>krmf</dc:creator>
  <dc:description/>
  <dc:language>en-US</dc:language>
  <cp:lastModifiedBy>krmf</cp:lastModifiedBy>
  <dcterms:modified xsi:type="dcterms:W3CDTF">2010-03-15T10:25:40Z</dcterms:modified>
  <cp:revision>3</cp:revision>
  <dc:subject/>
  <dc:title>Digitalt lärande</dc:title>
</cp:coreProperties>
</file>