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42F-1961-4F70-9D62-A8C279A6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D44-2536-42D2-8CFD-C5A3F175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C8B-D524-4B9B-82FA-2E6F244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F09-0CE5-4256-962C-1AA2ED90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489-0B3E-4CFC-ACE6-4719FD22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692B-397A-4192-832D-702E195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1E1-67BA-40C1-8D46-CBB93D6F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7518-8F23-4EC2-A5C7-5615B3B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CC9-F072-49AB-BFF0-2C6094EA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ADCF-B1D3-4FD9-A9AC-A938F33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F47D-373A-4245-9A77-B4B15E9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C3B-13E3-4826-BB35-00E56BA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83B2-C8EB-4175-BD20-7D6514F8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D2A0-EC3F-435F-B01D-0641CB4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4AFE-B506-4B60-A0DA-BCA534F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05B7-75DB-4FFF-8005-B416E818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4255-5066-43ED-906D-2291E778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340-D5C5-4FEF-9CAB-4FB26B50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6F6-B34A-475D-9CEC-0DE59BC6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ABC-3474-439A-A576-2B5DA1C7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CF4-B485-4995-981F-9646277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311-97CA-404E-9735-20D1B18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4ED-3A04-4FA5-9BDE-1A5B77C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7B2-C4EB-41E7-959A-3375289A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2D2-D845-4CD1-9705-E660D903E4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DD1-FAC6-4811-84C7-698BBD1637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t läran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åndagen den 15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gens lek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Att starta upp arbetet med digitalt lärand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Genomgång och diskussion i grupp. Skriva i wikin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14.00-15.00 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Återsamling 14.55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pdrag i dag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Låt en i gruppen logga in på Fronter och hämta sina inloggningsuppgifter till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2. Gå in på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älj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Elevernas tankar 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itta ert gruppnumm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3. Diskutera frågorna tillsammans i gruppen. Skriv in  era svar i wikin. Tryck på Edit-knappen , så kommer verktygsfältet fra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ågor som ska diskutera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är och hur använder ni er av datorer i skolan i da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ur skulle ni vilja att man använder sig av datorer i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ilka webbapplikationer (sajter) använder ni er av när ni jobbar med skolarbete hemma? Vad lär ni er då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gör ni på datorn när ni är lediga från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tror ni att det finns för nackdelar med datorer och Inter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nnat som ni diskuterad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äxa till freda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äs sexornas tipslista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Bli Internetsma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affa inloggningsuppgifter till vår wiki Digitalt lärande.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Invite finns i Frontermai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ogga in på Wikin. Längst uppe i hörnet finns det en knapp som heter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Discussion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ryck på 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vara på diskussionsfråg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dress till wikin:</a:t>
            </a: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http://digitaltlarande.wikispaces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53:22Z</dcterms:created>
  <dc:creator>krmf</dc:creator>
  <dc:description/>
  <dc:language>en-US</dc:language>
  <cp:lastModifiedBy>krmf</cp:lastModifiedBy>
  <dcterms:modified xsi:type="dcterms:W3CDTF">2010-03-15T10:25:40Z</dcterms:modified>
  <cp:revision>3</cp:revision>
  <dc:subject/>
  <dc:title>Digitalt lärande</dc:title>
</cp:coreProperties>
</file>