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D7F2-7A10-4BAE-8B0B-8505C2CF7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C3E8-FFA5-4B0F-A826-8F0B9FE9A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8158-AF30-4C7E-8314-F137447BF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7120-950E-4EE8-BACB-87831A4BB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B3387-E91E-42B8-BA1C-542CF0588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148A1-6913-466F-8612-5BD672FE1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0A87C-9E30-4A24-A030-22557BF1C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E7E49-A6DE-48A6-BD0D-498DAE13D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382FC-8DD8-4779-BAFC-2783949AE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20098-94BE-450A-839E-FA009CED6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9A740-673E-458F-B450-5A74ECF20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54EC-5359-4A73-B937-0B29FCB09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2F6A6-973A-45BF-AF66-EA5F81E66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B6A72-2746-4AD6-BEB0-46EE9A6CE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DF788-8A98-4FD1-9954-B25A47753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B01F0-32CD-4DFE-A743-F0C7A84FE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CFE43-26B1-451A-AD55-D19E9B75F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A440-BA3D-494A-994F-51A4291C5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668E-0879-4205-90DF-6C71F003C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8E49-9138-4592-9A58-A48E2AFD6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9CD8-DD38-414A-BA81-3A50A9EBB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BB7B-1023-4DE6-874F-BA896EBAF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C111-DA35-4968-BF3E-889107E44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A38D-BC0D-4463-920E-8E7425C3A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B0E91-2974-4726-B2C2-5E45A1D7F0C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44238-F7BD-47C6-A370-D4EF9897027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Digitalt lärande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åndagen den 15/3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agens lek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100" spc="-1" strike="noStrike">
                <a:solidFill>
                  <a:srgbClr val="ffffff"/>
                </a:solidFill>
                <a:latin typeface="Arial"/>
              </a:rPr>
              <a:t>Mål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v-SE" sz="2700" spc="-1" strike="noStrike">
                <a:solidFill>
                  <a:srgbClr val="ffffff"/>
                </a:solidFill>
                <a:latin typeface="Arial"/>
              </a:rPr>
              <a:t>Att starta upp arbetet med digitalt lärande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100" spc="-1" strike="noStrike">
                <a:solidFill>
                  <a:srgbClr val="ffffff"/>
                </a:solidFill>
                <a:latin typeface="Arial"/>
              </a:rPr>
              <a:t>Metod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v-SE" sz="2700" spc="-1" strike="noStrike">
                <a:solidFill>
                  <a:srgbClr val="ffffff"/>
                </a:solidFill>
                <a:latin typeface="Arial"/>
              </a:rPr>
              <a:t>Genomgång och diskussion i grupp. Skriva i wikin!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100" spc="-1" strike="noStrike">
                <a:solidFill>
                  <a:srgbClr val="ffffff"/>
                </a:solidFill>
                <a:latin typeface="Arial"/>
              </a:rPr>
              <a:t>Tid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700" spc="-1" strike="noStrike">
                <a:solidFill>
                  <a:srgbClr val="ffffff"/>
                </a:solidFill>
                <a:latin typeface="Arial"/>
              </a:rPr>
              <a:t>14.00-15.00 </a:t>
            </a:r>
            <a:r>
              <a:rPr b="0" i="1" lang="sv-SE" sz="2700" spc="-1" strike="noStrike">
                <a:solidFill>
                  <a:srgbClr val="ffffff"/>
                </a:solidFill>
                <a:latin typeface="Arial"/>
              </a:rPr>
              <a:t>Återsamling 14.55!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ppdrag i dag…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550"/>
              </a:spcBef>
              <a:buClr>
                <a:srgbClr val="99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ff"/>
                </a:solidFill>
                <a:latin typeface="Arial"/>
              </a:rPr>
              <a:t>Låt en i gruppen logga in på Fronter och hämta sina inloggningsuppgifter till wikin </a:t>
            </a:r>
            <a:r>
              <a:rPr b="0" i="1" lang="sv-SE" sz="2200" spc="-1" strike="noStrike">
                <a:solidFill>
                  <a:srgbClr val="ffffff"/>
                </a:solidFill>
                <a:latin typeface="Arial"/>
              </a:rPr>
              <a:t>Digitalt lärande</a:t>
            </a:r>
            <a:r>
              <a:rPr b="0" lang="sv-SE" sz="2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ff"/>
                </a:solidFill>
                <a:latin typeface="Arial"/>
              </a:rPr>
              <a:t>2. Gå in på wikin </a:t>
            </a:r>
            <a:r>
              <a:rPr b="0" i="1" lang="sv-SE" sz="2200" spc="-1" strike="noStrike">
                <a:solidFill>
                  <a:srgbClr val="ffffff"/>
                </a:solidFill>
                <a:latin typeface="Arial"/>
              </a:rPr>
              <a:t>Digitalt lärande. </a:t>
            </a:r>
            <a:r>
              <a:rPr b="0" lang="sv-SE" sz="2200" spc="-1" strike="noStrike">
                <a:solidFill>
                  <a:srgbClr val="ffffff"/>
                </a:solidFill>
                <a:latin typeface="Arial"/>
              </a:rPr>
              <a:t>Välj </a:t>
            </a:r>
            <a:r>
              <a:rPr b="0" i="1" lang="sv-SE" sz="2200" spc="-1" strike="noStrike">
                <a:solidFill>
                  <a:srgbClr val="ffffff"/>
                </a:solidFill>
                <a:latin typeface="Arial"/>
              </a:rPr>
              <a:t>Elevernas tankar . </a:t>
            </a:r>
            <a:r>
              <a:rPr b="0" lang="sv-SE" sz="2200" spc="-1" strike="noStrike">
                <a:solidFill>
                  <a:srgbClr val="ffffff"/>
                </a:solidFill>
                <a:latin typeface="Arial"/>
              </a:rPr>
              <a:t>Hitta ert gruppnummer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ff"/>
                </a:solidFill>
                <a:latin typeface="Arial"/>
              </a:rPr>
              <a:t>3. Diskutera frågorna tillsammans i gruppen. Skriv in  era svar i wikin. Tryck på Edit-knappen , så kommer verktygsfältet fram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ffff"/>
                </a:solidFill>
                <a:latin typeface="Times New Roman"/>
              </a:rPr>
              <a:t>Frågor som ska diskuteras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ff"/>
                </a:solidFill>
                <a:latin typeface="Arial"/>
              </a:rPr>
              <a:t>När och hur använder ni er av datorer i skolan i dag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ff"/>
                </a:solidFill>
                <a:latin typeface="Arial"/>
              </a:rPr>
              <a:t>Hur skulle ni vilja att man använder sig av datorer i skolan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ff"/>
                </a:solidFill>
                <a:latin typeface="Arial"/>
              </a:rPr>
              <a:t>Vilka webbapplikationer (sajter) använder ni er av när ni jobbar med skolarbete hemma? Vad lär ni er då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ff"/>
                </a:solidFill>
                <a:latin typeface="Arial"/>
              </a:rPr>
              <a:t>Vad gör ni på datorn när ni är lediga från skolan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ff"/>
                </a:solidFill>
                <a:latin typeface="Arial"/>
              </a:rPr>
              <a:t>Vad tror ni att det finns för nackdelar med datorer och Internet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ff"/>
                </a:solidFill>
                <a:latin typeface="Arial"/>
              </a:rPr>
              <a:t>Annat som ni diskuterade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äxa till freda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Läs sexornas tipslista </a:t>
            </a:r>
            <a:r>
              <a:rPr b="0" i="1" lang="sv-SE" sz="2400" spc="-1" strike="noStrike">
                <a:solidFill>
                  <a:srgbClr val="ffffff"/>
                </a:solidFill>
                <a:latin typeface="Arial"/>
              </a:rPr>
              <a:t>Bli Internetsmar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Skaffa inloggningsuppgifter till vår wiki Digitalt lärande. </a:t>
            </a:r>
            <a:r>
              <a:rPr b="0" i="1" lang="sv-SE" sz="2400" spc="-1" strike="noStrike">
                <a:solidFill>
                  <a:srgbClr val="ffffff"/>
                </a:solidFill>
                <a:latin typeface="Arial"/>
              </a:rPr>
              <a:t>Invite finns i Frontermailen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Logga in på Wikin. Längst uppe i hörnet finns det en knapp som heter </a:t>
            </a:r>
            <a:r>
              <a:rPr b="0" i="1" lang="sv-SE" sz="2400" spc="-1" strike="noStrike">
                <a:solidFill>
                  <a:srgbClr val="ffffff"/>
                </a:solidFill>
                <a:latin typeface="Arial"/>
              </a:rPr>
              <a:t>Discussion. </a:t>
            </a:r>
            <a:r>
              <a:rPr b="1" i="1" lang="sv-SE" sz="2400" spc="-1" strike="noStrike">
                <a:solidFill>
                  <a:srgbClr val="ffffff"/>
                </a:solidFill>
                <a:latin typeface="Arial"/>
              </a:rPr>
              <a:t>Tryck på den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Svara på diskussionsfrågan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Adress till wikin:</a:t>
            </a:r>
            <a:r>
              <a:rPr b="0" lang="sv-SE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http://digitaltlarande.wikispaces.com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5T09:53:22Z</dcterms:created>
  <dc:creator>krmf</dc:creator>
  <dc:description/>
  <dc:language>en-US</dc:language>
  <cp:lastModifiedBy>krmf</cp:lastModifiedBy>
  <dcterms:modified xsi:type="dcterms:W3CDTF">2010-03-15T10:25:40Z</dcterms:modified>
  <cp:revision>3</cp:revision>
  <dc:subject/>
  <dc:title>Digitalt lärande</dc:title>
</cp:coreProperties>
</file>