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685-DD4C-4AB4-A981-A2B99C0C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608-743F-442D-B869-CC4657D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6A4-7926-4EFC-A989-163A16FC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3B5-BC1B-4695-A6D2-F67EDB01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71B1-CCDC-458D-960F-1F19F993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9386-4FC2-42A5-A2B1-95D7A6EF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0B37-45E2-49C3-A33C-F7C368F6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2E7-CD6A-4889-960A-1E51B8E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9FEB-8605-49AD-B695-427709D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780E-701C-4460-992D-B42196A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63FE-B92E-480E-9CB9-B1D606F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4ED-3E71-4CE5-AD5E-5C0ADC09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1843-DC01-40D1-A30A-0ECE84D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ED1D-DF3C-4321-83F8-D50A7FE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84E6-C05C-41E7-B926-4983503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E746-F51E-4D40-AFAE-6FF3C7E4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1E1-3F5F-41AF-8938-5494473F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5C2-B4FD-4ACB-AB27-BBCF6398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BD0-C177-4380-8655-EB05FFC0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14E-A7C2-4AFD-94D9-0C213276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CB7-4B25-4912-A81F-9D1E2D8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122-589C-4428-8302-2670D0A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E1E-B791-478E-AE16-B55EEC1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466-9CE3-49C3-AF6C-9041170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2E08-3AC1-4390-8A21-22B04D892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93CA-4DBB-4C27-AA21-8C08D15F20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t läran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åndagen den 15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gens lek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Att starta upp arbetet med digitalt lärand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Genomgång och diskussion i grupp. Skriva i wikin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14.00-15.00 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Återsamling 14.55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pdrag i dag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Låt en i gruppen logga in på Fronter och hämta sina inloggningsuppgifter till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2. Gå in på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älj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Elevernas tankar 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itta ert gruppnumm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3. Diskutera frågorna tillsammans i gruppen. Skriv in  era svar i wikin. Tryck på Edit-knappen , så kommer verktygsfältet fra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ågor som ska diskutera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är och hur använder ni er av datorer i skolan i da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ur skulle ni vilja att man använder sig av datorer i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ilka webbapplikationer (sajter) använder ni er av när ni jobbar med skolarbete hemma? Vad lär ni er då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gör ni på datorn när ni är lediga från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tror ni att det finns för nackdelar med datorer och Inter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nnat som ni diskuterad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äxa till freda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äs sexornas tipslista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Bli Internetsma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affa inloggningsuppgifter till vår wiki Digitalt lärande.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Invite finns i Frontermai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ogga in på Wikin. Längst uppe i hörnet finns det en knapp som heter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Discussion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ryck på 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vara på diskussionsfråg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dress till wikin:</a:t>
            </a: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http://digitaltlarande.wikispaces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53:22Z</dcterms:created>
  <dc:creator>krmf</dc:creator>
  <dc:description/>
  <dc:language>en-US</dc:language>
  <cp:lastModifiedBy>krmf</cp:lastModifiedBy>
  <dcterms:modified xsi:type="dcterms:W3CDTF">2010-03-15T10:25:40Z</dcterms:modified>
  <cp:revision>3</cp:revision>
  <dc:subject/>
  <dc:title>Digitalt lärande</dc:title>
</cp:coreProperties>
</file>