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901-DEC3-4E0B-9DF7-80B077EB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004-4AA0-455F-B52C-073E457A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84C-461E-40ED-8E2E-73BAE19C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D81-CA74-460E-BAD2-B35D01AC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E1B9-1D5B-4629-A3FA-A5A1B5A5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1663-A1C7-4584-9C9E-A5D2D8D1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4868-BB92-4953-8A75-6CBE3260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3886-5A94-4284-B219-940AFC79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9444-C36E-4A23-AB78-5D5ABA93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2071-BD3E-4C3B-84D2-CCD98F73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0568-74AB-42A5-98EA-C49D5C4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9AD-2077-4328-83AB-B38DF0D0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336-3007-4ECC-B1D9-4FD2C5D2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8889-690D-41D1-8C1D-836F798B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F5C-3FCA-4B91-A3F9-2B01FB97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9427-AF58-4835-A985-DBCB6D96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411E-9B82-4988-ABCB-445667CC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D7E-4CA8-4AAE-8A11-E7D19203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F58-F2B9-4640-8E15-5F2BD625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8B8-63CD-4551-8D46-10F3E209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D34-C985-4C74-994A-34CB239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817-2629-4075-B7BF-C2392677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0B0-C8D7-45C6-872E-32127E0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255-A159-44F2-A7B5-59BB0D2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F359-9975-4228-9BEE-89B79212D0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090-F497-4156-BE42-363EBFC8A3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gitalt läran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åndagen den 15/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gens lek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Att starta upp arbetet med digitalt lärand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Genomgång och diskussion i grupp. Skriva i wikin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14.00-15.00 </a:t>
            </a:r>
            <a:r>
              <a:rPr b="0" i="1" lang="sv-SE" sz="2700" spc="-1" strike="noStrike">
                <a:solidFill>
                  <a:srgbClr val="ffffff"/>
                </a:solidFill>
                <a:latin typeface="Arial"/>
              </a:rPr>
              <a:t>Återsamling 14.55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pdrag i dag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Låt en i gruppen logga in på Fronter och hämta sina inloggningsuppgifter till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2. Gå in på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älj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Elevernas tankar 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itta ert gruppnumm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3. Diskutera frågorna tillsammans i gruppen. Skriv in  era svar i wikin. Tryck på Edit-knappen , så kommer verktygsfältet fra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rågor som ska diskutera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När och hur använder ni er av datorer i skolan i da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ur skulle ni vilja att man använder sig av datorer i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ilka webbapplikationer (sajter) använder ni er av när ni jobbar med skolarbete hemma? Vad lär ni er då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gör ni på datorn när ni är lediga från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tror ni att det finns för nackdelar med datorer och Interne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Annat som ni diskuterad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äxa till freda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äs sexornas tipslista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Bli Internetsma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affa inloggningsuppgifter till vår wiki Digitalt lärande.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Invite finns i Frontermail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ogga in på Wikin. Längst uppe i hörnet finns det en knapp som heter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Discussion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Tryck på d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vara på diskussionsfråg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dress till wikin:</a:t>
            </a: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http://digitaltlarande.wikispaces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9:53:22Z</dcterms:created>
  <dc:creator>krmf</dc:creator>
  <dc:description/>
  <dc:language>en-US</dc:language>
  <cp:lastModifiedBy>krmf</cp:lastModifiedBy>
  <dcterms:modified xsi:type="dcterms:W3CDTF">2010-03-15T10:25:40Z</dcterms:modified>
  <cp:revision>3</cp:revision>
  <dc:subject/>
  <dc:title>Digitalt lärande</dc:title>
</cp:coreProperties>
</file>