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FEC19-D2EB-4736-97B6-0ACBEB240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25C73-17BC-4B5E-BB86-BBF96161A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E17D8-1DB7-482C-87BB-2D6DA1303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BBD10-1C89-4344-B6EA-B015449BD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23310-FEDB-4E14-B4C6-AD0C3947A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CFB8A-A9BB-4DFE-8F99-52B95EBFC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26BC1-9A5D-4A0E-A928-D6B2BF766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1C87F-7786-4DB7-8261-F41D550F3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316C7-A6E7-4972-8D58-56F56D3CA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59A6A-9577-4164-A07D-0767A7B06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0A2E9-1FD9-49DC-94D1-D90918A9E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5401B-22A6-4430-8839-5704D10B0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4467-0181-455C-AE03-2880C07AE9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51960" y="2860560"/>
            <a:ext cx="769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Unicode MS"/>
              </a:rPr>
              <a:t>Nätmobbning/Cyberbully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 vi redan vet;</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Nätmobbning är ett </a:t>
            </a:r>
            <a:r>
              <a:rPr b="0" i="1" lang="sv-SE" sz="2400" spc="-1" strike="noStrike">
                <a:solidFill>
                  <a:srgbClr val="000000"/>
                </a:solidFill>
                <a:latin typeface="Arial"/>
              </a:rPr>
              <a:t>nytt </a:t>
            </a:r>
            <a:r>
              <a:rPr b="0" lang="sv-SE" sz="2400" spc="-1" strike="noStrike">
                <a:solidFill>
                  <a:srgbClr val="000000"/>
                </a:solidFill>
                <a:latin typeface="Arial"/>
              </a:rPr>
              <a:t>sätt att mobba, nämligen via tex. en dator, mobil m.m och inte ”</a:t>
            </a:r>
            <a:r>
              <a:rPr b="0" i="1" lang="sv-SE" sz="2400" spc="-1" strike="noStrike">
                <a:solidFill>
                  <a:srgbClr val="000000"/>
                </a:solidFill>
                <a:latin typeface="Arial"/>
              </a:rPr>
              <a:t>in real lif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Man blir mycket modigare och vågar skriva väldigt myc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Mobbningen fortsätter även hemma, och det är oftast tonåringar som drabb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Om man jämför med mobbning i skolan så är det bara </a:t>
            </a:r>
            <a:r>
              <a:rPr b="0" i="1" lang="sv-SE" sz="2400" spc="-1" strike="noStrike">
                <a:solidFill>
                  <a:srgbClr val="000000"/>
                </a:solidFill>
                <a:latin typeface="Arial"/>
              </a:rPr>
              <a:t>några</a:t>
            </a:r>
            <a:r>
              <a:rPr b="0" lang="sv-SE" sz="2400" spc="-1" strike="noStrike">
                <a:solidFill>
                  <a:srgbClr val="000000"/>
                </a:solidFill>
                <a:latin typeface="Arial"/>
              </a:rPr>
              <a:t> personer som ser om man blir mobbad, men via internet tex. Facebook då är det dubbelt så många som ser d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Om man skriver något som man sedan ångrar så går det inte att ta b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 fakt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Man ser inte reaktionen direkt, som man gör med </a:t>
            </a:r>
            <a:r>
              <a:rPr b="0" i="1" lang="sv-SE" sz="2000" spc="-1" strike="noStrike">
                <a:solidFill>
                  <a:srgbClr val="000000"/>
                </a:solidFill>
                <a:latin typeface="Arial"/>
              </a:rPr>
              <a:t>vanlig </a:t>
            </a:r>
            <a:r>
              <a:rPr b="0" lang="sv-SE" sz="2000" spc="-1" strike="noStrike">
                <a:solidFill>
                  <a:srgbClr val="000000"/>
                </a:solidFill>
                <a:latin typeface="Arial"/>
              </a:rPr>
              <a:t>mobbn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På SvD så har Elza Dunkel sagt att forskare har konstaterat att man blir mycket modigare genom nätet, istället för att stå öga mot öga. Alla ord blir mycket grovare och hård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källa; SvD   </a:t>
            </a:r>
            <a:endParaRPr b="0" lang="en-US" sz="2000" spc="-1" strike="noStrike">
              <a:solidFill>
                <a:srgbClr val="000000"/>
              </a:solidFill>
              <a:latin typeface="Arial"/>
            </a:endParaRPr>
          </a:p>
        </p:txBody>
      </p:sp>
      <p:pic>
        <p:nvPicPr>
          <p:cNvPr id="46" name="" descr=""/>
          <p:cNvPicPr/>
          <p:nvPr/>
        </p:nvPicPr>
        <p:blipFill>
          <a:blip r:embed="rId2"/>
          <a:stretch/>
        </p:blipFill>
        <p:spPr>
          <a:xfrm>
            <a:off x="4211640" y="3429000"/>
            <a:ext cx="2951280" cy="29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llnade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000000"/>
                </a:solidFill>
                <a:uFillTx/>
                <a:latin typeface="Arial"/>
              </a:rPr>
              <a:t>Mobbning</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Oftast händer det bara på skolt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Det är mer fysisk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Vuxna kan se det lättare, och göra något åt det (i skol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Man är inte lika anonym som på näte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 </a:t>
            </a:r>
            <a:r>
              <a:rPr b="1" lang="sv-SE" sz="2400" spc="-1" strike="noStrike" u="sng">
                <a:solidFill>
                  <a:srgbClr val="000000"/>
                </a:solidFill>
                <a:uFillTx/>
                <a:latin typeface="Arial"/>
              </a:rPr>
              <a:t>Nätmobbning</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Nätmobbningen fortsätter även hemma, dygnet ru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Det är mer psykisk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Man vågar 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Allt sprids väldigt snabbt, nästan alla vet vad som har hän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laptop"/>
          <p:cNvSpPr/>
          <p:nvPr/>
        </p:nvSpPr>
        <p:spPr>
          <a:xfrm>
            <a:off x="6877080" y="76500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för mobbar ma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kan ha dåligt hem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ll visa sig att man är cool för andra som har större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känner sig osäker,  vill skydda sig själv.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r ska vi stoppa de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åga säga ifrån till dom som mobbar, gå till en vuxen om du inte vågar säga det själ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m du blir mobbad på en sida, ta kontakt med ägaren och anmäl perso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 du chattar och blir utsatt av mobbning skriv ut och visa konversatio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äll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 har skrivit det mesta själva, förutom Sv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 Rebecca, Emma och Han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6:52:27Z</dcterms:created>
  <dc:creator>hanna.albinsson.96</dc:creator>
  <dc:description/>
  <dc:language>en-US</dc:language>
  <cp:lastModifiedBy>hanna.albinsson.96</cp:lastModifiedBy>
  <dcterms:modified xsi:type="dcterms:W3CDTF">2010-04-16T12:01:19Z</dcterms:modified>
  <cp:revision>5</cp:revision>
  <dc:subject/>
  <dc:title>Nätmobbning/Cyberbullying</dc:title>
</cp:coreProperties>
</file>