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BCA-EF1A-4C02-AF78-A40D860F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B09-7968-42A6-A119-9B0DBF33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A2B-6047-42E5-9397-B3AD7651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527-7771-4762-AF40-E8B701F9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C8F-E6BE-4183-9CB2-D8840DB1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8CC-4AC9-48CF-BC48-AD36E241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A92-CAE7-421C-BFDC-B9E95D98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C7D-E36D-48E1-AB1D-6D6C069D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43C-09F1-40FD-940B-3473FE62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95F-C4AE-4579-9C0F-49902B66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BD8-B013-4C5E-8CBE-42503386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0AE-5676-4FE3-8D5A-359CE5FD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99F7-27DF-4583-BC60-76CE44698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342600">
            <a:off x="2339640" y="1700280"/>
            <a:ext cx="5472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ätmobb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d är nätmobbn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 är när man blir utsatt för trakasserier en eller flera gånger på nä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t sprids snabbt på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0842800">
            <a:off x="899640" y="3644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460800">
            <a:off x="6011640" y="3573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92360" y="3500280"/>
            <a:ext cx="2121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ftonbladet har gjord en undersökning om nätmobbning som visar att tjejer tar större risker på nät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79640" y="3645000"/>
            <a:ext cx="54720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jejer tar störr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tet av undersökningen visar att verkligheten inte så som föräldrarna föreställer sig. Nätmobbning, porrsurfning, illegal nedladdning eller smygläsande av någon annans e-post är vanligare än man tror. Och det är många gånger tjejer som tar större risker på internet än kil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4797360"/>
            <a:ext cx="500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Undersökningen visande ocks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v tjejerna i den undersökta gruppen är det 7 procent som cybermobbat någon. 34,5 procent av flickorna har loggat in på någon annans sociala nätverkskonto och 18 procent har använt dejtingsajter som de egentligen är för unga f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4365720"/>
            <a:ext cx="19047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 gör du för att inte bli utsatt för nät mobb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 skriva kontaktuppgi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et är i ett chatt forum ta en skärmdum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et är i mobilen eller i ett mejl spara meddelande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mäl kränkande innehåll på sajter. De flesta sajter har en funktion där man kan anmäla             personer som beter sig taskig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akta polisen E-mobbning är lika straffbart som vanlig mobb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Gjord av: Amanda Fanny Pohn Aleksand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ak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ttp://aftonbladet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ttp://kollakallan.skolverket.se/saker/natmobbn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7:09:41Z</dcterms:created>
  <dc:creator>amanda.jonsson.96</dc:creator>
  <dc:description/>
  <dc:language>en-US</dc:language>
  <cp:lastModifiedBy>amanda.jonsson.96</cp:lastModifiedBy>
  <dcterms:modified xsi:type="dcterms:W3CDTF">2010-04-13T07:11:34Z</dcterms:modified>
  <cp:revision>4</cp:revision>
  <dc:subject/>
  <dc:title>Bild 1</dc:title>
</cp:coreProperties>
</file>