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456-CA75-45D2-A024-AF048CEC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C89E-C8FA-48DE-911F-8CEF446F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30B-FC25-4ABD-A589-CACF9946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C45-1FEC-4A47-A20B-CF7DBEF0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E73-6A4B-4231-A434-13B60AA5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F5A-F0C2-4305-8791-2499A3F5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283-B32F-4E93-B9A8-F8EDD988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CA1-5C58-41AF-9E34-8E0C288A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703-A10B-443F-BB59-31C73BC8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50C-47D9-40D3-9BB9-99135357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238-F013-4C07-BF49-A9B7A74B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BDE-E861-41B3-B19A-DC3D598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A44A-595F-4A44-8A3E-99B681EA8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42600">
            <a:off x="2339640" y="1700280"/>
            <a:ext cx="547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ätmobb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d är nätmobbn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är när man blir utsatt för trakasserier en eller flera gånger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t sprids snabbt på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0842800">
            <a:off x="899640" y="364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460800">
            <a:off x="6011640" y="357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2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ftonbladet har gjord en undersökning om nätmobbning som visar att tjejer tar större risker på nät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79640" y="3645000"/>
            <a:ext cx="54720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jejer tar störr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tet av undersökningen visar att verkligheten inte så som föräldrarna föreställer sig. Nätmobbning, porrsurfning, illegal nedladdning eller smygläsande av någon annans e-post är vanligare än man tror. Och det är många gånger tjejer som tar större risker på internet än ki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4797360"/>
            <a:ext cx="500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Undersökningen visande ocks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v tjejerna i den undersökta gruppen är det 7 procent som cybermobbat någon. 34,5 procent av flickorna har loggat in på någon annans sociala nätverkskonto och 18 procent har använt dejtingsajter som de egentligen är för unga f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19047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gör du för att inte bli utsatt för nät mobb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 skriva kontaktuppgi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ett chatt forum ta en skärmdum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mobilen eller i ett mejl spara meddelande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mäl kränkande innehåll på sajter. De flesta sajter har en funktion där man kan anmäla             personer som beter sig taskig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akta polisen E-mobbning är lika straffbart som vanlig mobb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jord av: Amanda Fanny Pohn Aleksand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ak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aftonbladet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kollakallan.skolverket.se/saker/natmobbn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7:09:41Z</dcterms:created>
  <dc:creator>amanda.jonsson.96</dc:creator>
  <dc:description/>
  <dc:language>en-US</dc:language>
  <cp:lastModifiedBy>amanda.jonsson.96</cp:lastModifiedBy>
  <dcterms:modified xsi:type="dcterms:W3CDTF">2010-04-13T07:11:34Z</dcterms:modified>
  <cp:revision>4</cp:revision>
  <dc:subject/>
  <dc:title>Bild 1</dc:title>
</cp:coreProperties>
</file>