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5089-6DDD-4586-BEBB-7F9806D17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4E73-5A6E-4121-B502-CD7DCE43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34AF-5060-43E9-991E-3FB103312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06F9-B468-4584-B0CA-685070C2B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4BC1-E6C8-4DA8-94D2-3A920C1C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FFD4-7E24-46DF-ADD3-F1D7B7BC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D554-C533-4741-9DBD-2E06D9DB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E559-5AEC-4BBC-9AB3-BC69BD27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FF75-F055-48BF-B1AD-7AAD8D6D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7654-602E-4E9A-B1EC-E9493987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C91D-6EFB-40B2-8375-FF2A4B63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BB0C-1533-4ACC-AF1E-275A5493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9512-686B-472B-9A8C-610609571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7a7a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1342600">
            <a:off x="2339640" y="1700280"/>
            <a:ext cx="5472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Nätmobbn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d är nätmobbning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 är när man blir utsatt för trakasserier en eller flera gånger på nät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t sprids snabbt på inter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 rot="20842800">
            <a:off x="899640" y="36446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 rot="460800">
            <a:off x="6011640" y="35730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492360" y="3500280"/>
            <a:ext cx="2121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Aftonbladet har gjord en undersökning om nätmobbning som visar att tjejer tar större risker på nät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79640" y="3645000"/>
            <a:ext cx="547200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a7a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jejer tar större ris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atet av undersökningen visar att verkligheten inte så som föräldrarna föreställer sig. Nätmobbning, porrsurfning, illegal nedladdning eller smygläsande av någon annans e-post är vanligare än man tror. Och det är många gånger tjejer som tar större risker på internet än kill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63640" y="4797360"/>
            <a:ext cx="5004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Undersökningen visande ocks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Av tjejerna i den undersökta gruppen är det 7 procent som cybermobbat någon. 34,5 procent av flickorna har loggat in på någon annans sociala nätverkskonto och 18 procent har använt dejtingsajter som de egentligen är för unga fö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12000" y="4365720"/>
            <a:ext cx="190476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a7a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ur gör du för att inte bli utsatt för nät mobb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 skriva kontaktuppgif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det är i ett chatt forum ta en skärmdum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det är i mobilen eller i ett mejl spara meddelandet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mäl kränkande innehåll på sajter. De flesta sajter har en funktion där man kan anmäla             personer som beter sig taskig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takta polisen E-mobbning är lika straffbart som vanlig mobbn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Gjord av: Amanda Fanny Pohn Aleksand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Fak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http://aftonbladet.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http://kollakallan.skolverket.se/saker/natmobbning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07:09:41Z</dcterms:created>
  <dc:creator>amanda.jonsson.96</dc:creator>
  <dc:description/>
  <dc:language>en-US</dc:language>
  <cp:lastModifiedBy>amanda.jonsson.96</cp:lastModifiedBy>
  <dcterms:modified xsi:type="dcterms:W3CDTF">2010-04-13T07:11:34Z</dcterms:modified>
  <cp:revision>4</cp:revision>
  <dc:subject/>
  <dc:title>Bild 1</dc:title>
</cp:coreProperties>
</file>