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EDC-7D55-447E-97B8-39C059A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13B-458D-4570-8D14-3187B224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DE9-4A4F-4CF9-BAC9-FD869667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2A6-3BAB-4E51-A503-DA38FC1D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8D-5E55-4530-A74B-3CC461DE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241-BE1A-4360-B6DE-DF473128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782-2E98-4B32-A5D4-C1F88D0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C4B-1CC2-47D4-A607-F573BC1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825-58C8-41ED-8494-832C953D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C9D-AEC4-4EAB-8513-12A5C7B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7DA-AA22-4BE0-B980-1AE899B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DF6-4A49-4D7C-92A7-670DA83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E014-A8DF-449D-8CD6-A97AFB3D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42600">
            <a:off x="2339640" y="1700280"/>
            <a:ext cx="54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ätmobb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nätmobbn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är när man blir utsatt för trakasserier en eller flera gånger på nä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t sprids snabbt på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842800">
            <a:off x="899640" y="364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460800">
            <a:off x="6011640" y="357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2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ftonbladet har gjord en undersökning om nätmobbning som visar att tjejer tar större risker på nät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5472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jejer tar störr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tet av undersökningen visar att verkligheten inte så som föräldrarna föreställer sig. Nätmobbning, porrsurfning, illegal nedladdning eller smygläsande av någon annans e-post är vanligare än man tror. Och det är många gånger tjejer som tar större risker på internet än ki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97360"/>
            <a:ext cx="500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ndersökningen visande ocks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v tjejerna i den undersökta gruppen är det 7 procent som cybermobbat någon. 34,5 procent av flickorna har loggat in på någon annans sociala nätverkskonto och 18 procent har använt dejtingsajter som de egentligen är för unga f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19047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a7a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gör du för att inte bli utsatt för nät mobb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 skriva kontaktuppgi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ett chatt forum ta en skärmdu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et är i mobilen eller i ett mejl spara meddeland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mäl kränkande innehåll på sajter. De flesta sajter har en funktion där man kan anmäla             personer som beter sig taski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akta polisen E-mobbning är lika straffbart som vanlig mobb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jord av: Amanda Fanny Pohn Aleksand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ak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aftonbladet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ttp://kollakallan.skolverket.se/saker/natmobbn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09:41Z</dcterms:created>
  <dc:creator>amanda.jonsson.96</dc:creator>
  <dc:description/>
  <dc:language>en-US</dc:language>
  <cp:lastModifiedBy>amanda.jonsson.96</cp:lastModifiedBy>
  <dcterms:modified xsi:type="dcterms:W3CDTF">2010-04-13T07:11:34Z</dcterms:modified>
  <cp:revision>4</cp:revision>
  <dc:subject/>
  <dc:title>Bild 1</dc:title>
</cp:coreProperties>
</file>