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139-FEB6-4B5A-B2D0-CB36B35D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5EB-304D-49ED-8338-06CBBE39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449-8352-498A-9985-58D51B50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AD6-0495-40D8-A727-2A2CF661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641-56E5-4524-AF33-405BD4F8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C39-CDE9-424D-BD2B-8E15CF60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55A-79ED-4BA3-86E8-91F96DE5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ADD-DE23-4FAF-8D36-E2EF4C0C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0BF-FFA6-4611-AC42-3256EDD3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698-D031-45EE-BB46-680C12E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D9D-D227-447B-BE77-45B9B2C9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0EF-27CA-4FC7-A309-E6202E8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4F2C-4CF9-475B-A8E4-BE35FE3F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42600">
            <a:off x="2339640" y="170028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ätmobb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nätmobbn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är när man blir utsatt för trakasserier en eller flera gånger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t sprids snabbt på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842800">
            <a:off x="899640" y="364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460800">
            <a:off x="6011640" y="357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2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ftonbladet har gjord en undersökning om nätmobbning som visar att tjejer tar större risker på nät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5472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jejer tar störr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tet av undersökningen visar att verkligheten inte så som föräldrarna föreställer sig. Nätmobbning, porrsurfning, illegal nedladdning eller smygläsande av någon annans e-post är vanligare än man tror. Och det är många gånger tjejer som tar större risker på internet än ki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500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ndersökningen visande ocks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v tjejerna i den undersökta gruppen är det 7 procent som cybermobbat någon. 34,5 procent av flickorna har loggat in på någon annans sociala nätverkskonto och 18 procent har använt dejtingsajter som de egentligen är för unga f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19047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gör du för att inte bli utsatt för nät mobb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 skriva kontaktuppgi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ett chatt forum ta en skärmdu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mobilen eller i ett mejl spara meddelande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mäl kränkande innehåll på sajter. De flesta sajter har en funktion där man kan anmäla             personer som beter sig task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akta polisen E-mobbning är lika straffbart som vanlig mobb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jord av: Amanda Fanny Pohn Aleksand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ak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aftonbladet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kollakallan.skolverket.se/saker/natmobbn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7:09:41Z</dcterms:created>
  <dc:creator>amanda.jonsson.96</dc:creator>
  <dc:description/>
  <dc:language>en-US</dc:language>
  <cp:lastModifiedBy>amanda.jonsson.96</cp:lastModifiedBy>
  <dcterms:modified xsi:type="dcterms:W3CDTF">2010-04-13T07:11:34Z</dcterms:modified>
  <cp:revision>4</cp:revision>
  <dc:subject/>
  <dc:title>Bild 1</dc:title>
</cp:coreProperties>
</file>