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C928A-7874-42F2-A821-C8184D42C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EEE07-F56C-4616-8B06-48920EA6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56CCF-EA7B-4548-9B44-894BC8D49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11B8C-1F6A-4F1D-95CB-1C2EC462C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123AF-3992-4543-B673-38A2E257F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CDD7E-9C0E-4AF8-8D3E-56A1B7AC2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95B7D-D78C-45A1-9178-78CCCACB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F0AE-999D-47B8-9A6E-70793A9D0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39F8A-873D-4216-B7A1-978CE5BF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6BD1F-DF2B-4DC4-BFAE-FDBF29EF1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299E-EF6C-40AF-85DE-EDC6BBFF6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13576-C012-48A2-A2C8-6FDD8BF1A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BA07-55B8-4704-9D09-5E1D35C25A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opcyberbullying.org/what_is_cyberbullying_exactly.html" TargetMode="External"/><Relationship Id="rId3" Type="http://schemas.openxmlformats.org/officeDocument/2006/relationships/hyperlink" Target="http://www.stopcyberbullying.org/what_is_cyberbullying_exactly.html" TargetMode="External"/><Relationship Id="rId4" Type="http://schemas.openxmlformats.org/officeDocument/2006/relationships/hyperlink" Target="http://www.stopcyberbullying.org/what_is_cyberbullying_exactly.html" TargetMode="External"/><Relationship Id="rId5" Type="http://schemas.openxmlformats.org/officeDocument/2006/relationships/hyperlink" Target="http://www.stopcyberbullying.org/what_is_cyberbullying_exactly.html" TargetMode="External"/><Relationship Id="rId6" Type="http://schemas.openxmlformats.org/officeDocument/2006/relationships/hyperlink" Target="http://www.flickr.com/" TargetMode="External"/><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12536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Nätmobbing/Cyberbullying</a:t>
            </a:r>
            <a:endParaRPr b="0" lang="en-US" sz="4800" spc="-1" strike="noStrike">
              <a:solidFill>
                <a:srgbClr val="000000"/>
              </a:solidFill>
              <a:latin typeface="Arial"/>
            </a:endParaRPr>
          </a:p>
        </p:txBody>
      </p:sp>
      <p:pic>
        <p:nvPicPr>
          <p:cNvPr id="42" name="" descr=""/>
          <p:cNvPicPr/>
          <p:nvPr/>
        </p:nvPicPr>
        <p:blipFill>
          <a:blip r:embed="rId1"/>
          <a:stretch/>
        </p:blipFill>
        <p:spPr>
          <a:xfrm>
            <a:off x="2340000" y="2565360"/>
            <a:ext cx="4248000" cy="3095640"/>
          </a:xfrm>
          <a:prstGeom prst="rect">
            <a:avLst/>
          </a:prstGeom>
          <a:ln w="0">
            <a:noFill/>
          </a:ln>
        </p:spPr>
      </p:pic>
      <p:sp>
        <p:nvSpPr>
          <p:cNvPr id="43" name=""/>
          <p:cNvSpPr/>
          <p:nvPr/>
        </p:nvSpPr>
        <p:spPr>
          <a:xfrm>
            <a:off x="2124000" y="59500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james/4391361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d5e4"/>
            </a:gs>
            <a:gs pos="50000">
              <a:srgbClr val="ffffff"/>
            </a:gs>
            <a:gs pos="100000">
              <a:srgbClr val="44d5e4"/>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Vad är nätmobbing?</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Nätmobbing är när ett barn eller en tonåring plågas, blir hotad, trakasserad, förödmjukad eller generad av digitalteknik eller mobiltelefoner. Det måste vara två minderåriga för att det ska kallas cyberbullying om det är två vuxna så kallas det cybertalking eller cyber-trakasserier. Barnen byter ofta roller och går från offer till att trakassera tillbaka igen. Cybermobbing är vanligtvis inte en engångshänd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96416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 som blir mobbad på Internet kan aldrig känna sig trygg. De känner flera pojkar och flickor som blivit mobbade och utsatta på Internet. Ibland kan de själva känna att gränserna för vad man får säga och göra på nätet är suddiga. Skolan och föräldrarna kan inte vänta med att agera när någon blivit trakasserade på nätet. De anser läraren Fredrik Olin som arbetat mot mobbing i mer än 20 år. ”den omedelbara reaktionen är en viktig markering mot det skyldiga som utfört kränkning”, säger han.</a:t>
            </a:r>
            <a:endParaRPr b="0" lang="en-US" sz="2400" spc="-1" strike="noStrike">
              <a:solidFill>
                <a:srgbClr val="000000"/>
              </a:solidFill>
              <a:latin typeface="Arial"/>
            </a:endParaRPr>
          </a:p>
        </p:txBody>
      </p:sp>
      <p:sp>
        <p:nvSpPr>
          <p:cNvPr id="48" name=""/>
          <p:cNvSpPr/>
          <p:nvPr/>
        </p:nvSpPr>
        <p:spPr>
          <a:xfrm>
            <a:off x="755640" y="62064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0000"/>
                </a:solidFill>
                <a:uFillTx/>
                <a:latin typeface="Arial"/>
              </a:rPr>
              <a:t>Fakta om nätmobbing/cyberbull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260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 som blir mobbad via datorn eller mobiltelefonen får aldrig vara ifred. Kränkningarna kommer när som helst. mobbaren kan vara vem som helst. Publiken hur stor som helst. och de vuxna har ingen aning om vad som sk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2268360" y="3284640"/>
            <a:ext cx="4021200" cy="3193920"/>
          </a:xfrm>
          <a:prstGeom prst="rect">
            <a:avLst/>
          </a:prstGeom>
          <a:ln w="0">
            <a:noFill/>
          </a:ln>
        </p:spPr>
      </p:pic>
      <p:sp>
        <p:nvSpPr>
          <p:cNvPr id="51" name=""/>
          <p:cNvSpPr/>
          <p:nvPr/>
        </p:nvSpPr>
        <p:spPr>
          <a:xfrm>
            <a:off x="1481760" y="649116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odrigovera/6186312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33"/>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ur man kan skydda sig mot nätmobbing</a:t>
            </a:r>
            <a:endParaRPr b="0" lang="en-US" sz="2800" spc="-1" strike="noStrike">
              <a:solidFill>
                <a:srgbClr val="000000"/>
              </a:solidFill>
              <a:latin typeface="Arial"/>
            </a:endParaRPr>
          </a:p>
        </p:txBody>
      </p:sp>
      <p:sp>
        <p:nvSpPr>
          <p:cNvPr id="53" name="PlaceHolder 2"/>
          <p:cNvSpPr>
            <a:spLocks noGrp="1"/>
          </p:cNvSpPr>
          <p:nvPr>
            <p:ph type="subTitle"/>
          </p:nvPr>
        </p:nvSpPr>
        <p:spPr>
          <a:xfrm>
            <a:off x="1332000" y="1844280"/>
            <a:ext cx="6400800" cy="4753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berätta för någon vuxen om man själv eller någon annan blir utsatt. Om det är grova saker bör man alltid anmäla det till polisen. Sen kan man ju också spara hotfulla sms och mail så att det kan spåras. Om din kompis tex. blir utsatt, våga säga ifrån att det är fel. Visa att du inte ställer upp på mobbingen. Innan du lägger ut bilder och information på nätet så tänk efter ordentligt vad det är du sprider vidare. Samma lagar gäller på nätet som i verkligheten, alla har ett lika stort ansvar där som annars. Om du vill ha schyssta kompisar så måste du vara en själv. Både IRL (in real life) och på nätet. Om du själv vill ha respekt, så måste du också respektera andra människ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u="sng">
                <a:solidFill>
                  <a:srgbClr val="000000"/>
                </a:solidFill>
                <a:uFillTx/>
                <a:latin typeface="Arial"/>
              </a:rPr>
              <a:t>Elza Dunkel</a:t>
            </a:r>
            <a:endParaRPr b="0" lang="en-US" sz="4400" spc="-1" strike="noStrike">
              <a:solidFill>
                <a:srgbClr val="000000"/>
              </a:solidFill>
              <a:latin typeface="Arial"/>
            </a:endParaRPr>
          </a:p>
        </p:txBody>
      </p:sp>
      <p:sp>
        <p:nvSpPr>
          <p:cNvPr id="55" name="PlaceHolder 2"/>
          <p:cNvSpPr>
            <a:spLocks noGrp="1"/>
          </p:cNvSpPr>
          <p:nvPr>
            <p:ph type="subTitle"/>
          </p:nvPr>
        </p:nvSpPr>
        <p:spPr>
          <a:xfrm>
            <a:off x="1547640" y="2276280"/>
            <a:ext cx="6400800" cy="25923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Elza Dunkel forskar om ungas beteende på nätet. Enligt Elza uttrycker vi mycket starkare åsikter på nätet än vi gör i andra sammanhang. Hon säger –”Det beror på att vi inte ser reaktionen direkt. I vanliga samtal är vi oerhört lyhörda på vilken effekt det vi säger får, och anpassar oss efter de. Men här dröjer reaktionen, säger h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Vad vi tycker om nätmobbing</a:t>
            </a:r>
            <a:endParaRPr b="0" lang="en-US" sz="4400" spc="-1" strike="noStrike">
              <a:solidFill>
                <a:srgbClr val="000000"/>
              </a:solidFill>
              <a:latin typeface="Arial"/>
            </a:endParaRPr>
          </a:p>
        </p:txBody>
      </p:sp>
      <p:sp>
        <p:nvSpPr>
          <p:cNvPr id="57" name="PlaceHolder 2"/>
          <p:cNvSpPr>
            <a:spLocks noGrp="1"/>
          </p:cNvSpPr>
          <p:nvPr>
            <p:ph type="subTitle"/>
          </p:nvPr>
        </p:nvSpPr>
        <p:spPr>
          <a:xfrm>
            <a:off x="1258920" y="299736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tycker att nätmobbing är fel, det är inte rätt att kränka någon annan. Man ska tänka på att behandla andra så som man vill bli behandlad själv. Alla som är online på Internet måste ta ansvar för att det ska bli schysst, för just nu är det inte mycket som är schysst på Int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71280" y="691920"/>
            <a:ext cx="352764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ällor:</a:t>
            </a:r>
            <a:endParaRPr b="0" lang="en-US" sz="3200" spc="-1" strike="noStrike">
              <a:solidFill>
                <a:srgbClr val="000000"/>
              </a:solidFill>
              <a:latin typeface="Arial"/>
            </a:endParaRPr>
          </a:p>
        </p:txBody>
      </p:sp>
      <p:sp>
        <p:nvSpPr>
          <p:cNvPr id="59" name="PlaceHolder 2"/>
          <p:cNvSpPr>
            <a:spLocks noGrp="1"/>
          </p:cNvSpPr>
          <p:nvPr>
            <p:ph type="subTitle"/>
          </p:nvPr>
        </p:nvSpPr>
        <p:spPr>
          <a:xfrm>
            <a:off x="1332000" y="1557000"/>
            <a:ext cx="6400800" cy="40323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vD</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2"/>
              </a:rPr>
              <a:t>http://</a:t>
            </a:r>
            <a:r>
              <a:rPr b="0" lang="sv-SE" sz="1800" spc="-1" strike="noStrike" u="sng">
                <a:solidFill>
                  <a:srgbClr val="009999"/>
                </a:solidFill>
                <a:uFillTx/>
                <a:latin typeface="Arial"/>
                <a:hlinkClick r:id="rId3"/>
              </a:rPr>
              <a:t>www.stopcyberbullying.org</a:t>
            </a:r>
            <a:r>
              <a:rPr b="0" lang="sv-SE" sz="1800" spc="-1" strike="noStrike" u="sng">
                <a:solidFill>
                  <a:srgbClr val="009999"/>
                </a:solidFill>
                <a:uFillTx/>
                <a:latin typeface="Arial"/>
                <a:hlinkClick r:id="rId4"/>
              </a:rPr>
              <a:t>/</a:t>
            </a:r>
            <a:r>
              <a:rPr b="0" lang="sv-SE" sz="1800" spc="-1" strike="noStrike" u="sng">
                <a:solidFill>
                  <a:srgbClr val="009999"/>
                </a:solidFill>
                <a:uFillTx/>
                <a:latin typeface="Arial"/>
                <a:hlinkClick r:id="rId5"/>
              </a:rPr>
              <a:t>what_is_cyberbullying_exactly.htm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6"/>
              </a:rPr>
              <a:t>www.flickr.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v: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enn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nn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Gohar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rk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7:06:21Z</dcterms:created>
  <dc:creator>jenny.melander.96</dc:creator>
  <dc:description/>
  <dc:language>en-US</dc:language>
  <cp:lastModifiedBy>jenny.melander.96</cp:lastModifiedBy>
  <dcterms:modified xsi:type="dcterms:W3CDTF">2010-04-16T11:52:58Z</dcterms:modified>
  <cp:revision>5</cp:revision>
  <dc:subject/>
  <dc:title>Nätmobbing/Cyberbullying</dc:title>
</cp:coreProperties>
</file>