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598-3F7E-4228-8966-C88589F4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83F-DE8F-4388-8E27-15E47C40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9CF-DEE9-496D-B886-9FEFB640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D6D-7A84-47DF-A261-49955E7B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009-F7A0-4B15-87FA-21C6C136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C13-2E33-4475-A276-7FA672F6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0B2-B6BB-46BE-A103-43E8D24C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067-6C48-4BFF-8D29-09B132A8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A20-5EE5-436B-B893-27FFB230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C6B-500B-490B-99D0-FCA7A1E1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898-5330-40A4-BF81-BAF2586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01E-D80C-44E6-A664-2B36CA7B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DB32-E972-46CC-B023-B6F25A758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Vad är nätmobbing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ätmobbning är tillexempel, Att man blir mobbad på Msn, Facebook, Lunarstorm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Föreningar som är imot cyberbull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t finns olika föreningar imot nätmobbing, Friends är en stor förening, i reallife och på nä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för dom som blir mobba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a en skärmdump.(kort på datorn(prnt scr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a en vux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ortrait Series by Goflorp."/>
          <p:cNvPicPr/>
          <p:nvPr/>
        </p:nvPicPr>
        <p:blipFill>
          <a:blip r:embed="rId1"/>
          <a:stretch/>
        </p:blipFill>
        <p:spPr>
          <a:xfrm>
            <a:off x="3081240" y="1047600"/>
            <a:ext cx="29815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sanmäl mobba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 mobba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är du nog inte lika mobbad längre 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tta var alla tips från oss, Robin, Adde, Robert. </a:t>
            </a:r>
            <a:r>
              <a:rPr b="0" lang="sv-S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Länkar: http://www.flickr.com/photos/goflorp/38969532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1:49:11Z</dcterms:created>
  <dc:creator>adrian.johansson.96</dc:creator>
  <dc:description/>
  <dc:language>en-US</dc:language>
  <cp:lastModifiedBy>adrian.johansson.96</cp:lastModifiedBy>
  <dcterms:modified xsi:type="dcterms:W3CDTF">2010-04-19T12:15:57Z</dcterms:modified>
  <cp:revision>7</cp:revision>
  <dc:subject/>
  <dc:title>Tips för dom som blir mobbade.</dc:title>
</cp:coreProperties>
</file>