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C93-23A3-4D2C-8CBE-F2DE74A9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C04-7C1D-4CE4-B739-D05C2EA3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150-426A-49F8-B7CF-3D40B523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912-783B-491A-96EF-15A243DF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666-76ED-4097-8449-04C4FBE9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CCE-BDD2-415D-94C3-8CE2AE29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E73-17B1-4D44-B961-ADFC6C6B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143-1FD3-4E7F-83B0-29031139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CAB-B218-42C5-9060-B0E51CA5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6E3-43B2-400D-8A5F-0CEEE8B1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4C7-C1B3-499A-ACA8-CF0C5CA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A0F-D203-4B4A-8995-1E581C8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BB85-2467-4AB0-B4AD-A753CCFF2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ad är nätmobbing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ätmobbning är tillexempel, Att man blir mobbad på Msn, Facebook, Lunarstorm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Föreningar som är imot cyberbull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 finns olika föreningar imot nätmobbing, Friends är en stor förening, i reallife och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ör dom som blir mobb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 en skärmdump.(kort på datorn(prnt scr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a en vux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ortrait Series by Goflorp."/>
          <p:cNvPicPr/>
          <p:nvPr/>
        </p:nvPicPr>
        <p:blipFill>
          <a:blip r:embed="rId1"/>
          <a:stretch/>
        </p:blipFill>
        <p:spPr>
          <a:xfrm>
            <a:off x="3081240" y="1047600"/>
            <a:ext cx="29815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sanmäl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är du nog inte lika mobbad längre 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ta var alla tips från oss, Robin, Adde, Robert. </a:t>
            </a:r>
            <a:r>
              <a:rPr b="0" lang="sv-S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änkar: http://www.flickr.com/photos/goflorp/38969532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49:11Z</dcterms:created>
  <dc:creator>adrian.johansson.96</dc:creator>
  <dc:description/>
  <dc:language>en-US</dc:language>
  <cp:lastModifiedBy>adrian.johansson.96</cp:lastModifiedBy>
  <dcterms:modified xsi:type="dcterms:W3CDTF">2010-04-19T12:15:57Z</dcterms:modified>
  <cp:revision>7</cp:revision>
  <dc:subject/>
  <dc:title>Tips för dom som blir mobbade.</dc:title>
</cp:coreProperties>
</file>