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CDC0-3C34-46B2-8C82-0FE275A2A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455E-80FC-43C8-BA6B-7558D093D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6E0E-F794-44BC-8C59-464258C22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A5D7-7F4F-42FA-BAC9-9D3FB78D7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848B-B4F7-468B-9B16-288E192A7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445D-A1BA-42D7-BD1D-F3B664E54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FA20-791C-4DD9-9F5B-0F561D018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3E72-4D85-4BFA-B7FC-DC4026182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AF8E-1626-418D-B2BE-013B0E676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0C61-1AAA-4798-8B28-6D22E324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8F7D-7847-4AFD-82FA-823B3C51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ABC3-4705-4BF9-A10A-720AB206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F6D95-4ED7-41B0-AF33-8ED4DA84E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32000" y="2276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Vad är nätmobbing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Nätmobbning är tillexempel, Att man blir mobbad på Msn, Facebook, Lunarstorm m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0000"/>
                </a:solidFill>
                <a:latin typeface="Arial"/>
              </a:rPr>
              <a:t>Föreningar som är imot cyberbull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Det finns olika föreningar imot nätmobbing, Friends är en stor förening, i reallife och på nät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s för dom som blir mobbad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Ta en skärmdump.(kort på datorn(prnt scrn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9528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takta en vux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Portrait Series by Goflorp."/>
          <p:cNvPicPr/>
          <p:nvPr/>
        </p:nvPicPr>
        <p:blipFill>
          <a:blip r:embed="rId1"/>
          <a:stretch/>
        </p:blipFill>
        <p:spPr>
          <a:xfrm>
            <a:off x="3081240" y="1047600"/>
            <a:ext cx="298152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39640" y="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sanmäl mobba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cka mobba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 är du nog inte lika mobbad längre ;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Detta var alla tips från oss, Robin, Adde, Robert. </a:t>
            </a:r>
            <a:r>
              <a:rPr b="0" lang="sv-S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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Länkar: http://www.flickr.com/photos/goflorp/38969532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11:49:11Z</dcterms:created>
  <dc:creator>adrian.johansson.96</dc:creator>
  <dc:description/>
  <dc:language>en-US</dc:language>
  <cp:lastModifiedBy>adrian.johansson.96</cp:lastModifiedBy>
  <dcterms:modified xsi:type="dcterms:W3CDTF">2010-04-19T12:15:57Z</dcterms:modified>
  <cp:revision>7</cp:revision>
  <dc:subject/>
  <dc:title>Tips för dom som blir mobbade.</dc:title>
</cp:coreProperties>
</file>