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F50-3D6F-4728-ADE9-DABF1E8E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62E-5626-42B4-9ED8-04DA158B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E60-BE17-4C72-85B6-4BFE6BEA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3C65-BD8D-468E-AD3C-B9CE6A1F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927-996F-4D64-9AB7-126E56DA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F05-9846-4591-99F9-4407D6C0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E5D-631E-4A0D-98BA-DB02ED37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8AF5-0B65-44A9-926D-74B0F397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815-A933-4456-9171-219B431E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E72-0C0D-4DB8-B0E9-D48DBB47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107-D400-4F61-89EE-BDA89D8D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8A3-2681-4E2F-AC16-6358BA02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ED5B-E4B1-480D-83D4-AC9793A72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Vad är nätmobbing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Nätmobbning är tillexempel, Att man blir mobbad på Msn, Facebook, Lunarstorm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Föreningar som är imot cyberbull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t finns olika föreningar imot nätmobbing, Friends är en stor förening, i reallife och på nä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för dom som blir mobba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a en skärmdump.(kort på datorn(prnt scrn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a en vux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ortrait Series by Goflorp."/>
          <p:cNvPicPr/>
          <p:nvPr/>
        </p:nvPicPr>
        <p:blipFill>
          <a:blip r:embed="rId1"/>
          <a:stretch/>
        </p:blipFill>
        <p:spPr>
          <a:xfrm>
            <a:off x="3081240" y="1047600"/>
            <a:ext cx="29815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sanmäl mobba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a mobba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 är du nog inte lika mobbad längre ;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tta var alla tips från oss, Robin, Adde, Robert. </a:t>
            </a:r>
            <a:r>
              <a:rPr b="0" lang="sv-S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Länkar: http://www.flickr.com/photos/goflorp/38969532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1:49:11Z</dcterms:created>
  <dc:creator>adrian.johansson.96</dc:creator>
  <dc:description/>
  <dc:language>en-US</dc:language>
  <cp:lastModifiedBy>adrian.johansson.96</cp:lastModifiedBy>
  <dcterms:modified xsi:type="dcterms:W3CDTF">2010-04-19T12:15:57Z</dcterms:modified>
  <cp:revision>7</cp:revision>
  <dc:subject/>
  <dc:title>Tips för dom som blir mobbade.</dc:title>
</cp:coreProperties>
</file>