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58D-1C86-445E-9CB8-74BD7066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23D-CE4F-4934-AC4C-BDB93134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527-B4DA-4D38-8205-FF319215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844-7AE0-470A-BA11-9CCF1E21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384-741E-4AED-B90E-E20ED63E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ED4-DC44-4371-974A-ED8442A6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700-F266-45AC-BDF4-BECA34DA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0F1-8568-4DAB-9296-DDF40A8E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056-EAE4-4CB7-B0E0-29039FB3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408-0277-423D-A5A1-325EA63F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0E4-44B1-4CCE-B846-0FF65BFF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AFE-89D1-4BAD-9A6A-DA3A85BB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2376-E690-4C43-B214-15C769C61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Vad är nätmobbing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ätmobbning är tillexempel, Att man blir mobbad på Msn, Facebook, Lunarstorm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Föreningar som är imot cyberbull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t finns olika föreningar imot nätmobbing, Friends är en stor förening, i reallife och på nä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för dom som blir mobba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a en skärmdump.(kort på datorn(prnt scr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a en vux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ortrait Series by Goflorp."/>
          <p:cNvPicPr/>
          <p:nvPr/>
        </p:nvPicPr>
        <p:blipFill>
          <a:blip r:embed="rId1"/>
          <a:stretch/>
        </p:blipFill>
        <p:spPr>
          <a:xfrm>
            <a:off x="3081240" y="1047600"/>
            <a:ext cx="29815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sanmäl mobba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 mobba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är du nog inte lika mobbad längre 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tta var alla tips från oss, Robin, Adde, Robert. </a:t>
            </a:r>
            <a:r>
              <a:rPr b="0" lang="sv-S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Länkar: http://www.flickr.com/photos/goflorp/38969532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1:49:11Z</dcterms:created>
  <dc:creator>adrian.johansson.96</dc:creator>
  <dc:description/>
  <dc:language>en-US</dc:language>
  <cp:lastModifiedBy>adrian.johansson.96</cp:lastModifiedBy>
  <dcterms:modified xsi:type="dcterms:W3CDTF">2010-04-19T12:15:57Z</dcterms:modified>
  <cp:revision>7</cp:revision>
  <dc:subject/>
  <dc:title>Tips för dom som blir mobbade.</dc:title>
</cp:coreProperties>
</file>