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50B7-5DC4-428A-8E6F-505256E8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6A1D-6E8E-4F42-8596-9F14E419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78E-478D-41C4-B749-9F10C3FC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72FB-F8BC-4BBF-AC07-DDFA3E6B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05F6-A20C-4579-BFF4-AEE96238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6A66-46E9-402E-8662-BDCC2C63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04A2-C45D-44FA-8220-D773E05F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87CE-956D-49C0-8DC2-67C6DAF1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F00D-F619-48B6-BC60-543E0935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84DE-C1B4-4555-AED7-A3B774FE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A3F5-746D-4E89-B8BF-4B49BA6C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BC0-49DE-4CDB-8D3A-E43BEAA7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D1B4-8E59-47AA-8465-BE4452E9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F922-A996-4234-B25E-85BA9951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865A-7119-4010-A635-3F5B7A9C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6BEF-A701-4C9F-8EFD-9AEA885F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EF03-C3A3-4C08-AAD6-EEEC5D01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012-6D7F-476E-943E-A657864C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305-63C2-4F02-823A-610E8C7D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DAC-31AC-4DDA-BC44-44A08CD4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9AD-03E3-4A7E-B749-2D194D1C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DA0-E5FB-4F21-8D87-7161E2A7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472-4DCF-40D3-A253-C97104C1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276A-936F-475E-80F3-1CE1F8B4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B05A-36D1-4637-BDF9-4EB4DE429F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6804-029D-4A7A-B4AC-9F410F523D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vd.se/nyheter/inrikes/vuxna-blinda-for-natmobbning_4487661" TargetMode="External"/><Relationship Id="rId2" Type="http://schemas.openxmlformats.org/officeDocument/2006/relationships/hyperlink" Target="http://www.svd.se/nyheter/inrikes/vuxna-blinda-for-natmobbning_4487661" TargetMode="External"/><Relationship Id="rId3" Type="http://schemas.openxmlformats.org/officeDocument/2006/relationships/hyperlink" Target="http://www.svd.se/nyheter/inrikes/vuxna-blinda-for-natmobbning_4487661" TargetMode="External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gens lektion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/4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Må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tt tillsammans lära oss mer om nätmobbning och hur vi kan hjälpas åt för att förhindra d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Meto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Fortsätta med gruppens ppt. Redovisning på månda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T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14.00-15.00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sv-SE" sz="2400" spc="-1" strike="noStrike">
                <a:solidFill>
                  <a:srgbClr val="ffffff"/>
                </a:solidFill>
                <a:latin typeface="Arial"/>
              </a:rPr>
              <a:t>Återsamling i klassrummet 14.55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ppgiften var att…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Göra ett bildspel: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Vad ska man göra när man stöter på nätmobbn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Bildspelet ska innehålla fakta om nätmobbning/cyberbullying och era tips på hur man kan göra för att stoppa det. Alla har ett ansvar här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Bildspelet ska funka att visa för ungdomar i 13-15 års åldern och till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Budskapet ska  innehålla aktuell fakta, ni ska göra en egen analys och dra en slutsats om nätmobbning. Kort sagt ni ska ta ställning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Det ska finnas källhänvisning och tillåtna eller egna bil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å här kommer arbetet att bedö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Hur väl du samarbetar i gruppen (samhällskunskap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Hur väl du lyssnar på och respekterar andras åsikter under arbet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Hur  väl  du och din grupp använder fakta om mobbning och nätmobbning i ert bildspel (alla SO-ämnen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Hur väl ditt och gruppens  arbete reflekterar kring vad som är rätt och fel (religion) och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tar ställning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  kring nätmobbning i ert bildsp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Hur  väl ni använder er av i olika källor samt anger källhänvisningar i ert arbe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n först ska vi läsa en tidningsartikel  tillsammans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http://</a:t>
            </a:r>
            <a:r>
              <a:rPr b="0" lang="sv-SE" sz="24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www.svd.se</a:t>
            </a:r>
            <a:r>
              <a:rPr b="0" lang="sv-SE" sz="24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/nyheter/inrikes/vuxna-blinda-for-natmobbning_448766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äxa tills på freda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Leta upp och ta med en aktuell tidningsartikel som  handlar om nätmobbn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1:25:29Z</dcterms:created>
  <dc:creator>krmf</dc:creator>
  <dc:description/>
  <dc:language>en-US</dc:language>
  <cp:lastModifiedBy>krmf</cp:lastModifiedBy>
  <dcterms:modified xsi:type="dcterms:W3CDTF">2010-04-12T11:41:46Z</dcterms:modified>
  <cp:revision>3</cp:revision>
  <dc:subject/>
  <dc:title>Dagens lektion 13/4 2010</dc:title>
</cp:coreProperties>
</file>