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A6B-09F2-46C0-9FBA-7B962FDE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23A-A57D-4C49-8B73-D818963E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5C8-5810-4E7E-B067-32EE8158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C02-1BF5-45F8-83ED-B3D83708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B776-C0ED-489F-993D-2B48BACB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A2A8-C218-4EEB-AD2C-F1C17E5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A488-656E-4384-9977-58E9B211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7421-CB35-4B79-A89A-98C72EFE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030D-D51A-41CE-9CF2-41D39E5B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E1DA-13A2-464D-950E-D802FD09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3119-75F3-41B0-BDAB-94A62C2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420-787F-448E-8FC9-92BB3549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9247-532C-4912-A1F8-53155FE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CCF3-6E44-4B17-BDA8-C9DA5E8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BFE2-EE9B-4D3D-BA2C-760638B3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9F12-13C5-48A5-9E8A-ED494CB3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C3F0-5E6C-4BEC-996F-9980D999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A86-3DDF-4E4B-9F20-0D9A5B86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84C-A9C8-4C10-A657-99E28DB0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F2B-255F-4E4A-9D17-F0CFD741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1E8-E83A-4493-B0C3-D56EF6C9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9BB-A1A7-4D4D-9868-1584AFA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503-EA29-4B85-8722-72A52463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E2A-641F-4155-AE02-00A69E4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8B9C-E777-4267-88AA-51301EC2AE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17ED-408E-454C-9A35-9FB3E1256C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vd.se/nyheter/inrikes/vuxna-blinda-for-natmobbning_4487661" TargetMode="External"/><Relationship Id="rId2" Type="http://schemas.openxmlformats.org/officeDocument/2006/relationships/hyperlink" Target="http://www.svd.se/nyheter/inrikes/vuxna-blinda-for-natmobbning_4487661" TargetMode="External"/><Relationship Id="rId3" Type="http://schemas.openxmlformats.org/officeDocument/2006/relationships/hyperlink" Target="http://www.svd.se/nyheter/inrikes/vuxna-blinda-for-natmobbning_4487661" TargetMode="External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gens lekti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/4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tt tillsammans lära oss mer om nätmobbning och hur vi kan hjälpas åt för att förhindra d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Fortsätta med gruppens ppt. Redovisning på månda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14.00-15.00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Återsamling i klassrummet 14.55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pgiften var att…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öra ett bildspel: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Vad ska man göra när man stöter på nätmobbn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ildspelet ska innehålla fakta om nätmobbning/cyberbullying och era tips på hur man kan göra för att stoppa det. Alla har ett ansvar här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ildspelet ska funka att visa för ungdomar i 13-15 års åldern och till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udskapet ska  innehålla aktuell fakta, ni ska göra en egen analys och dra en slutsats om nätmobbning. Kort sagt ni ska ta ställn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Det ska finnas källhänvisning och tillåtna eller egna bil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här kommer arbetet att bedö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u samarbetar i gruppen (samhällskunskap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u lyssnar på och respekterar andras åsikter under arbet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 väl  du och din grupp använder fakta om mobbning och nätmobbning i ert bildspel (alla SO-ämnen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itt och gruppens  arbete reflekterar kring vad som är rätt och fel (religion) och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tar ställning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 kring nätmobbning i ert bildsp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 väl ni använder er av i olika källor samt anger källhänvisningar i ert arbe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n först ska vi läsa en tidningsartikel  tillsamman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</a:t>
            </a: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svd.se</a:t>
            </a: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/nyheter/inrikes/vuxna-blinda-for-natmobbning_44876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äxa tills på freda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Leta upp och ta med en aktuell tidningsartikel som  handlar om nätmobbn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1:25:29Z</dcterms:created>
  <dc:creator>krmf</dc:creator>
  <dc:description/>
  <dc:language>en-US</dc:language>
  <cp:lastModifiedBy>krmf</cp:lastModifiedBy>
  <dcterms:modified xsi:type="dcterms:W3CDTF">2010-04-12T11:41:46Z</dcterms:modified>
  <cp:revision>3</cp:revision>
  <dc:subject/>
  <dc:title>Dagens lektion 13/4 2010</dc:title>
</cp:coreProperties>
</file>