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AA4-107C-4456-9084-2DB8DE2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CE1-D4AA-4149-8737-AE6325E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24B-DD32-493C-9B95-EC2D7342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AFF-79F3-424D-ADFD-E33E58F1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C29-6896-4FAD-A0F3-8C80C0B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C5E-11D9-4353-AA6E-1EEB7C09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A7B8-FF56-4354-80D6-90E5941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AD9-C12E-4686-83AF-3FA8A3D4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FE2-9D89-489B-A2C0-FB43EB6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EC2-AE64-4354-A30F-7DD3691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657D-4F7C-4156-B32B-A929C59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B74-4F0A-477E-9E44-80DDF5C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A684-48BA-4ACD-B4C0-5246F8F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2550-56D2-40B4-BFA9-9D1E8669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AED-6E40-4797-8B0C-9EC4127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C42B-EE01-4141-B010-7DAEEC5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BCB2-1918-4C7D-B0BD-12DB2E86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147-4E1F-4D0C-8A7D-D0EDBD3D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59E-9BA3-4F6B-9A60-A92D6B7E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A04-F03A-40B9-B42D-B09826C4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098-AB57-4638-AFA3-2518CBFF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913-696D-44D2-9143-FAF8F74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9DE-1D03-4690-9617-E9E82BDC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A90-1411-45E5-8B65-23E511F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1002-E6F9-471D-8257-620B3E736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072-1F4C-4366-A125-BF9FBFF8C6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vd.se/nyheter/inrikes/vuxna-blinda-for-natmobbning_4487661" TargetMode="External"/><Relationship Id="rId2" Type="http://schemas.openxmlformats.org/officeDocument/2006/relationships/hyperlink" Target="http://www.svd.se/nyheter/inrikes/vuxna-blinda-for-natmobbning_4487661" TargetMode="External"/><Relationship Id="rId3" Type="http://schemas.openxmlformats.org/officeDocument/2006/relationships/hyperlink" Target="http://www.svd.se/nyheter/inrikes/vuxna-blinda-for-natmobbning_4487661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gens lekti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/4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å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tt tillsammans lära oss mer om nätmobbning och hur vi kan hjälpas åt för att förhindra 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t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Fortsätta med gruppens ppt. Redovisning på månda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14.00-15.00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Återsamling i klassrummet 14.55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pgiften var att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Göra ett bildspel: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Vad ska man göra när man stöter på nätmobb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innehålla fakta om nätmobbning/cyberbullying och era tips på hur man kan göra för att stoppa det. Alla har ett ansvar hä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ildspelet ska funka att visa för ungdomar i 13-15 års åldern och til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udskapet ska  innehålla aktuell fakta, ni ska göra en egen analys och dra en slutsats om nätmobbning. Kort sagt ni ska ta ställn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Det ska finnas källhänvisning och tillåtna eller egna bil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här kommer arbetet att bedö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samarbetar i gruppen (samhällskunsk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u lyssnar på och respekterar andras åsikter under arb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 du och din grupp använder fakta om mobbning och nätmobbning i ert bildspel (alla SO-ämne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väl ditt och gruppens  arbete reflekterar kring vad som är rätt och fel (religion) och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ar ställning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 kring nätmobbning i ert bilds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Hur  väl ni använder er av i olika källor samt anger källhänvisningar i ert arbe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 först ska vi läsa en tidningsartikel  tillsamman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svd.se</a:t>
            </a:r>
            <a:r>
              <a:rPr b="0" lang="sv-SE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/nyheter/inrikes/vuxna-blinda-for-natmobbning_44876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äxa tills på freda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Leta upp och ta med en aktuell tidningsartikel som  handlar om nätmobb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25:29Z</dcterms:created>
  <dc:creator>krmf</dc:creator>
  <dc:description/>
  <dc:language>en-US</dc:language>
  <cp:lastModifiedBy>krmf</cp:lastModifiedBy>
  <dcterms:modified xsi:type="dcterms:W3CDTF">2010-04-12T11:41:46Z</dcterms:modified>
  <cp:revision>3</cp:revision>
  <dc:subject/>
  <dc:title>Dagens lektion 13/4 2010</dc:title>
</cp:coreProperties>
</file>