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084E-45C1-42FF-B617-49774FFD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DEB1-A6F8-4343-B96C-FC075C08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83D-8B2B-40DE-AE57-23BFC7EE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6059-0447-4589-AE15-476DDD9E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A4C5-D7E4-4B7D-A68D-115F314C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A6C4-4581-4B5B-8907-E6C2D8C8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4A5A-483E-459C-9A25-AE8FC23D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FA33-74A3-4AC7-A7D0-EE47D7A4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CC6F-FEE2-4786-9615-DE6CE57A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EDDA-EBFE-4C34-8CA5-C5D31762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239F-F9C8-467E-93E9-5B4907B4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EF65-6D85-4D51-8638-568B9941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D47F-4543-4EAB-BAA0-DBA8ADD8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7760-26C2-4953-A315-6240B1E4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AD23-C02F-49EE-BF56-8E2718E4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5C2E-680E-4337-99FE-25C3A913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7C1C-BBB2-4EE6-99D0-F4E8B66A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FDBE-A0B1-4429-9B02-83F73DB7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6B32-4DDB-413F-B91A-DB8FC178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8ACA-FA64-492E-AD75-D10C71B5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3B1C-3257-4A12-AEC2-0ADEC90F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61B1-B028-498A-9FCE-889DBB6F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E51-0752-4079-B527-4A64AD6C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BF38-2176-47FC-95A2-6F47CF07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A0BF-73AD-4BFD-AD24-88E88F2503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7A10-0013-4ED5-A50C-0C980EF919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vd.se/nyheter/inrikes/vuxna-blinda-for-natmobbning_4487661" TargetMode="External"/><Relationship Id="rId2" Type="http://schemas.openxmlformats.org/officeDocument/2006/relationships/hyperlink" Target="http://www.svd.se/nyheter/inrikes/vuxna-blinda-for-natmobbning_4487661" TargetMode="External"/><Relationship Id="rId3" Type="http://schemas.openxmlformats.org/officeDocument/2006/relationships/hyperlink" Target="http://www.svd.se/nyheter/inrikes/vuxna-blinda-for-natmobbning_4487661" TargetMode="External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gens lektion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/4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Må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tt tillsammans lära oss mer om nätmobbning och hur vi kan hjälpas åt för att förhindra d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Meto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Fortsätta med gruppens ppt. Redovisning på månda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T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14.00-15.00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sv-SE" sz="2400" spc="-1" strike="noStrike">
                <a:solidFill>
                  <a:srgbClr val="ffffff"/>
                </a:solidFill>
                <a:latin typeface="Arial"/>
              </a:rPr>
              <a:t>Återsamling i klassrummet 14.55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ppgiften var att…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Göra ett bildspel: 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Vad ska man göra när man stöter på nätmobbn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Bildspelet ska innehålla fakta om nätmobbning/cyberbullying och era tips på hur man kan göra för att stoppa det. Alla har ett ansvar här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Bildspelet ska funka att visa för ungdomar i 13-15 års åldern och till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Budskapet ska  innehålla aktuell fakta, ni ska göra en egen analys och dra en slutsats om nätmobbning. Kort sagt ni ska ta ställning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Det ska finnas källhänvisning och tillåtna eller egna bil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å här kommer arbetet att bedö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Hur väl du samarbetar i gruppen (samhällskunskap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Hur väl du lyssnar på och respekterar andras åsikter under arbet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Hur  väl  du och din grupp använder fakta om mobbning och nätmobbning i ert bildspel (alla SO-ämnen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Hur väl ditt och gruppens  arbete reflekterar kring vad som är rätt och fel (religion) och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tar ställning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  kring nätmobbning i ert bildsp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Hur  väl ni använder er av i olika källor samt anger källhänvisningar i ert arbe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n först ska vi läsa en tidningsartikel  tillsammans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http://</a:t>
            </a:r>
            <a:r>
              <a:rPr b="0" lang="sv-SE" sz="24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www.svd.se</a:t>
            </a:r>
            <a:r>
              <a:rPr b="0" lang="sv-SE" sz="24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/nyheter/inrikes/vuxna-blinda-for-natmobbning_448766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äxa tills på freda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Leta upp och ta med en aktuell tidningsartikel som  handlar om nätmobbn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1:25:29Z</dcterms:created>
  <dc:creator>krmf</dc:creator>
  <dc:description/>
  <dc:language>en-US</dc:language>
  <cp:lastModifiedBy>krmf</cp:lastModifiedBy>
  <dcterms:modified xsi:type="dcterms:W3CDTF">2010-04-12T11:41:46Z</dcterms:modified>
  <cp:revision>3</cp:revision>
  <dc:subject/>
  <dc:title>Dagens lektion 13/4 2010</dc:title>
</cp:coreProperties>
</file>