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E810-A40A-4C1D-8011-1E7E18B0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DB46-7B26-4E06-84D7-CDDE32B4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E3AC-171B-4603-8BFA-D7A1C8A6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23E8-E1DB-4B95-A8E9-C939CF51C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CD5B-C89F-482A-A421-04777B0F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2AAF-4B3C-4900-A347-918EFD3B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60A5-284E-4E41-8D12-9E967031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2A99-8D58-409D-A4BC-B4471294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4D3E-17FA-41BD-8557-A2AF4F72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FE2E-EC86-4E10-B733-215D20BF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9797-570A-4822-91CA-08DE7BCD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EEBA-7FEE-4839-821B-C8DD35CA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8ED9-3F4E-46EE-A0ED-80847DB4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C5C0-3A01-4875-9D94-791EF505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29B9-083A-41A2-BB5D-F0940BA8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574A-AF33-4079-A278-0691CA29E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85E2-61BB-4D98-BC73-82EDF4C18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A7D6-F734-4B2D-AAB1-245D7298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F6CA-C943-4C7D-BE2D-36DADB57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E675-9D72-4383-B321-45AF36D7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534F-783D-4FD8-BD6A-B38EE6CA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0FCC-4E51-4FE9-9F1E-15AB336F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8E63-DD37-4E77-B775-F6E5F427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AC17-93E7-43A8-BB12-353B3BA1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2F41-1A07-48A6-B2B9-64E819DB101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4D9B-4FCE-4D32-BE3E-5EC4FE5E44B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yberbullying.us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ätmobbning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ätmobbning är vanligast bland 12-13-åringa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t förkommer oftast bland tjejer efter skolti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killnad mot mobbning i allmänhet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 flesta berättar inte för någon för att bli rädda för att dem ska bli avstängda från Interne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oppa cybermobb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Det har hänt att barn har mördat varandra och begått självmord efter ha varit inblandat i cybermobbning händel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sv-SE" sz="3200" spc="-1" strike="noStrike">
                <a:solidFill>
                  <a:srgbClr val="ff0000"/>
                </a:solidFill>
                <a:latin typeface="Comic Sans MS"/>
              </a:rPr>
              <a:t>DET ÄR INTE OKEJ! (På sättåvi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Elza Dunkels är född 1960 och är filosofie doktor som är pedagogiskt arbete vid Umeå universitet. Elza Dunkels arbete har blivit uppmärksammat i medi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ad är Webbmobbning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 webbmobbning är när någon upprepade gånger trakasserar, eller gör narr av en annan person online eller när du använder mobiltelefoner eller andra elektroniska saker.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´Tack för oss ^^’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Comic Sans MS"/>
              </a:rPr>
              <a:t>Max, Tristan, Victor, Sebastian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Comic Sans MS"/>
              </a:rPr>
              <a:t>Källor: </a:t>
            </a:r>
            <a:r>
              <a:rPr b="0" lang="sv-SE" sz="1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www.cyberbullying.us/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Comic Sans MS"/>
              </a:rPr>
              <a:t>www.robin.com/bajs/damp/dansk/boe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Comic Sans MS"/>
              </a:rPr>
              <a:t>http://sv.wikipedia.org/wiki/N%C3%A4tmobbnin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Comic Sans MS"/>
              </a:rPr>
              <a:t>http://www.stopcyberbullying.org/tweens/index.htm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Comic Sans MS"/>
              </a:rPr>
              <a:t>Shulelelu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Comic Sans MS"/>
              </a:rPr>
              <a:t>Detta värk var tråkigt att göra. 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06:48:09Z</dcterms:created>
  <dc:creator>victor.arnesen.96</dc:creator>
  <dc:description/>
  <dc:language>en-US</dc:language>
  <cp:lastModifiedBy>victor.arnesen.96</cp:lastModifiedBy>
  <dcterms:modified xsi:type="dcterms:W3CDTF">2010-04-16T11:47:04Z</dcterms:modified>
  <cp:revision>7</cp:revision>
  <dc:subject/>
  <dc:title>Nätmobbning</dc:title>
</cp:coreProperties>
</file>