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332-3289-4697-B9DE-344DC1CE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9A1-9B6C-4645-80E2-AB27763D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025-91F2-4487-A4FE-680BDCDA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383-B8B4-48D5-85C4-47D789A3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26C1-1C98-4255-8FE5-8C8C080E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FB47-47BE-49F4-B696-FF69F410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E358-A655-4826-BE96-BEE6CEFA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5DBE-E047-48A4-AB4C-A61C179F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6E1A-98A5-4017-A339-E1750140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50A2-FDD1-459B-B354-D29DBF1E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5554-82D5-40CA-A407-4B911BF8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B7B-CD52-4A06-A48D-13CC382A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3A56-80E4-4F76-A587-7D3C6FD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858C-9AFD-4777-9778-07075937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E670-D63A-42EE-8B17-FD044E33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9BA7-AE47-4264-8FD9-4E3766F5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126B-9C08-4EFA-A69C-24FD3E0C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12A-FE41-4E4A-98D4-0C60B269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DCF-574F-40CA-94E5-E6FE8EE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888-5B4F-4A5F-9DDE-EF6566E2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DAC-488A-42C4-912A-E6BD3F8F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5E3-79D6-4FFD-9EF5-05BAC0F1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D7F-71EF-49A7-B8D7-5FA32B68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655-8F60-4E7A-A79F-90F61BF0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8BD-CCB7-4F70-BF6D-1FCE6A98D5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7DBD-9DB9-4823-9700-1BE9C4DDDC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yberbullying.us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ätmobb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ätmobbning är vanligast bland 12-13-åring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 förkommer oftast bland tjejer efter skolti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killnad mot mobbning i allmänhe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flesta berättar inte för någon för att bli rädda för att dem ska bli avstängda från Intern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ppa cybermobb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et har hänt att barn har mördat varandra och begått självmord efter ha varit inblandat i cybermobbning händ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v-SE" sz="3200" spc="-1" strike="noStrike">
                <a:solidFill>
                  <a:srgbClr val="ff0000"/>
                </a:solidFill>
                <a:latin typeface="Comic Sans MS"/>
              </a:rPr>
              <a:t>DET ÄR INTE OKEJ! (På sättåv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lza Dunkels är född 1960 och är filosofie doktor som är pedagogiskt arbete vid Umeå universitet. Elza Dunkels arbete har blivit uppmärksammat i medi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d är Webbmobb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 webbmobbning är när någon upprepade gånger trakasserar, eller gör narr av en annan person online eller när du använder mobiltelefoner eller andra elektroniska saker.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´Tack för oss ^^’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Max, Tristan, Victor, Sebastian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Källor: </a:t>
            </a:r>
            <a:r>
              <a:rPr b="0" lang="sv-SE" sz="1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cyberbullying.us/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www.robin.com/bajs/damp/dansk/boe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sv.wikipedia.org/wiki/N%C3%A4tmobbn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www.stopcyberbullying.org/tweens/index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Shulelelu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Detta värk var tråkigt att göra.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6:48:09Z</dcterms:created>
  <dc:creator>victor.arnesen.96</dc:creator>
  <dc:description/>
  <dc:language>en-US</dc:language>
  <cp:lastModifiedBy>victor.arnesen.96</cp:lastModifiedBy>
  <dcterms:modified xsi:type="dcterms:W3CDTF">2010-04-16T11:47:04Z</dcterms:modified>
  <cp:revision>7</cp:revision>
  <dc:subject/>
  <dc:title>Nätmobbning</dc:title>
</cp:coreProperties>
</file>