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BE3-8ED0-4B03-AAA1-B3282B5C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64E-10DB-4DE2-BA33-735B339A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E6D-3038-447E-9C8F-4CA7DC13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7CB-8983-4957-8C33-4A55C309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86AD-C783-489D-86FC-527C7061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C0A-1A81-4EA3-B2C8-E632C4F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C84-F0BE-41B3-9B52-5F53BA04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8764-4B56-45B1-AFB8-9071A58C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9A7-F567-4FEC-8372-DB743412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1EEE-FCBC-434F-9274-637FC55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BAD4-E3BE-42C0-A226-AC36C6D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7E8-3843-4B80-AA4E-3A0FC38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F10-FCC7-44A6-807D-FC4C4C8E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E80-33CA-4698-9F83-A6702C13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36D-AB8A-4847-B115-E91C3BD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B37B-9B48-4CA6-B126-B0C4CCD8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547-1B16-494F-80BA-23E3EC43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CB8-20C6-4CEB-B244-EDA92D6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6B2-DF9D-4726-AC54-413C07DE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7CE-89F0-45F3-AB20-38D480F2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13C-ECE3-448E-BA57-EDBFFD18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699-7800-4DF5-A18A-022C9E9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311-4191-4EB9-A98D-959E952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11D-9EDE-4F21-94EE-6F25BFE3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24E-FDC0-4E26-B6F2-524A7ED4D4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603-E9EB-4FA8-96C4-96AAFC0DB3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bullying.u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ätmobb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ätmobbning är vanligast bland 12-13-årin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 förkommer oftast bland tjejer efter skolt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nad mot mobbning i allmänhe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flesta berättar inte för någon för att bli rädda för att dem ska bli avstängda från Intern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pa cybermobb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t har hänt att barn har mördat varandra och begått självmord efter ha varit inblandat i cybermobbning händ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v-SE" sz="3200" spc="-1" strike="noStrike">
                <a:solidFill>
                  <a:srgbClr val="ff0000"/>
                </a:solidFill>
                <a:latin typeface="Comic Sans MS"/>
              </a:rPr>
              <a:t>DET ÄR INTE OKEJ! (På sättåv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za Dunkels är född 1960 och är filosofie doktor som är pedagogiskt arbete vid Umeå universitet. Elza Dunkels arbete har blivit uppmärksammat i med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d är Webbmobb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 webbmobbning är när någon upprepade gånger trakasserar, eller gör narr av en annan person online eller när du använder mobiltelefoner eller andra elektroniska saker.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´Tack för oss ^^’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Max, Tristan, Victor, Sebastia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Källor: </a:t>
            </a:r>
            <a:r>
              <a:rPr b="0" lang="sv-SE" sz="1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cyberbullying.us/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www.robin.com/bajs/damp/dansk/boe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sv.wikipedia.org/wiki/N%C3%A4tmobbn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www.stopcyberbullying.org/tweens/index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Shulelelu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Detta värk var tråkigt att göra.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48:09Z</dcterms:created>
  <dc:creator>victor.arnesen.96</dc:creator>
  <dc:description/>
  <dc:language>en-US</dc:language>
  <cp:lastModifiedBy>victor.arnesen.96</cp:lastModifiedBy>
  <dcterms:modified xsi:type="dcterms:W3CDTF">2010-04-16T11:47:04Z</dcterms:modified>
  <cp:revision>7</cp:revision>
  <dc:subject/>
  <dc:title>Nätmobbning</dc:title>
</cp:coreProperties>
</file>