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2942-2188-40AA-8DAF-31A3B1AE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6BCD-1C4A-47EE-8BFE-6B27F7AE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DB47-BED9-4D6C-8154-F939342E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52D7-6D27-4413-AD7B-470063CC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DB98-2FEF-4F93-B2A6-14BD1FE9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373A-8CF8-4361-8384-3C8CCAF2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CBB0-8BE6-4667-98DC-8C8AE51E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5727-6FD8-4E7A-8730-EFEDD876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FCA0-C5D2-4FDD-8331-91589613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A42E-C372-446B-A9F3-EA7FD749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56ED-2617-40A5-B9B2-9DD3C0AE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5C4C-46F8-47F3-8A8F-44C0D6FA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0FD1-5705-4D7B-96C9-8223173C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F4A2-7C3C-432A-9BC4-F9E4C91E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F064-2F8C-4F83-B75E-9B90E3B9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C26E-CD55-4AB8-BAAC-29C6FE53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721C-9A56-4B5A-A96B-85CCA48B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E8E9-A4FC-4FDD-AA84-687B179D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0226-95B6-4680-9611-07ADB8D8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5A5D-95DE-4BD7-87B8-98EB8371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3D07-5500-4F1F-9924-C453E484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891A-0CDD-49E4-870D-8F8100B6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3AA8-1391-4A4F-A282-4651C9AB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8D8C-1636-4405-A3AA-347C61FB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1529-B286-43A0-B0A4-D74D30E44DA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82F2-7713-418F-833B-57C73F03424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yberbullying.us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ätmobbning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ätmobbning är vanligast bland 12-13-åringa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t förkommer oftast bland tjejer efter skolti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killnad mot mobbning i allmänhet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 flesta berättar inte för någon för att bli rädda för att dem ska bli avstängda från Interne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oppa cybermobb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et har hänt att barn har mördat varandra och begått självmord efter ha varit inblandat i cybermobbning händel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v-SE" sz="3200" spc="-1" strike="noStrike">
                <a:solidFill>
                  <a:srgbClr val="ff0000"/>
                </a:solidFill>
                <a:latin typeface="Comic Sans MS"/>
              </a:rPr>
              <a:t>DET ÄR INTE OKEJ! (På sättåvi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Elza Dunkels är född 1960 och är filosofie doktor som är pedagogiskt arbete vid Umeå universitet. Elza Dunkels arbete har blivit uppmärksammat i medi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ad är Webbmobbning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 webbmobbning är när någon upprepade gånger trakasserar, eller gör narr av en annan person online eller när du använder mobiltelefoner eller andra elektroniska saker.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´Tack för oss ^^’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Max, Tristan, Victor, Sebastian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Källor: </a:t>
            </a:r>
            <a:r>
              <a:rPr b="0" lang="sv-SE" sz="1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cyberbullying.us/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www.robin.com/bajs/damp/dansk/boe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http://sv.wikipedia.org/wiki/N%C3%A4tmobbnin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http://www.stopcyberbullying.org/tweens/index.htm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Shulelelu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Detta värk var tråkigt att göra. 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6:48:09Z</dcterms:created>
  <dc:creator>victor.arnesen.96</dc:creator>
  <dc:description/>
  <dc:language>en-US</dc:language>
  <cp:lastModifiedBy>victor.arnesen.96</cp:lastModifiedBy>
  <dcterms:modified xsi:type="dcterms:W3CDTF">2010-04-16T11:47:04Z</dcterms:modified>
  <cp:revision>7</cp:revision>
  <dc:subject/>
  <dc:title>Nätmobbning</dc:title>
</cp:coreProperties>
</file>