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3977-F466-4453-A005-BBD80414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35B-A5F5-474C-86F9-BE8D5708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0CEC-EA3A-4BFA-90D2-528B5357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18A0-26E1-43F7-9910-8D890C04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2731-E430-4DE7-8707-72B69ACE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19F7-F07F-4F9B-8F81-C358C008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D75E-68D4-4EF0-97C2-7781B1DD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3BBE-2206-41CC-AFA1-66877E2C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18E7-A88D-4712-A2D3-8A938A71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C3C0-2C59-42DD-8729-FB5D7DDC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2A97-26E9-4622-8BF7-DEF9AB12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CB2-50B7-447D-93F1-90977D1B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F665-52E2-47C0-BFD3-DB1FF7B5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8B12-C0B3-43ED-A167-BFBDF19F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2B31-2931-4B82-B972-02ABC9B7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D570-195F-4A1C-A6C3-7869F042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BB9F-40FC-4450-96DE-CC033D16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8A98-CBA1-4733-B57A-79C59337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754A-7140-4012-A718-C26E78FA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2FC3-07DB-4403-A1BF-AD95B9C6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7971-0B45-44A0-85AA-4A1E7B93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4DD5-B67F-40AC-933E-E04669E9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785-1351-4C8F-A4C4-CB4553CC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733-5C6C-430C-A30D-8396D4CB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DABD-AFD5-4831-B4AD-2B4DDE8123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F747-8C87-4388-8D3B-BDFC52E65A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yberbullying.us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ätmobbnin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ätmobbning är vanligast bland 12-13-åringa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t förkommer oftast bland tjejer efter skolti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killnad mot mobbning i allmänhet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 flesta berättar inte för någon för att bli rädda för att dem ska bli avstängda från Intern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oppa cybermobb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et har hänt att barn har mördat varandra och begått självmord efter ha varit inblandat i cybermobbning händ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v-SE" sz="3200" spc="-1" strike="noStrike">
                <a:solidFill>
                  <a:srgbClr val="ff0000"/>
                </a:solidFill>
                <a:latin typeface="Comic Sans MS"/>
              </a:rPr>
              <a:t>DET ÄR INTE OKEJ! (På sättåvi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lza Dunkels är född 1960 och är filosofie doktor som är pedagogiskt arbete vid Umeå universitet. Elza Dunkels arbete har blivit uppmärksammat i medi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ad är Webbmobbning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 webbmobbning är när någon upprepade gånger trakasserar, eller gör narr av en annan person online eller när du använder mobiltelefoner eller andra elektroniska saker.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´Tack för oss ^^’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Max, Tristan, Victor, Sebastian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Källor: </a:t>
            </a:r>
            <a:r>
              <a:rPr b="0" lang="sv-SE" sz="1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cyberbullying.us/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www.robin.com/bajs/damp/dansk/boe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http://sv.wikipedia.org/wiki/N%C3%A4tmobbnin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http://www.stopcyberbullying.org/tweens/index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Shulelelu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Comic Sans MS"/>
              </a:rPr>
              <a:t>Detta värk var tråkigt att göra. 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6:48:09Z</dcterms:created>
  <dc:creator>victor.arnesen.96</dc:creator>
  <dc:description/>
  <dc:language>en-US</dc:language>
  <cp:lastModifiedBy>victor.arnesen.96</cp:lastModifiedBy>
  <dcterms:modified xsi:type="dcterms:W3CDTF">2010-04-16T11:47:04Z</dcterms:modified>
  <cp:revision>7</cp:revision>
  <dc:subject/>
  <dc:title>Nätmobbning</dc:title>
</cp:coreProperties>
</file>